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872-5F57-40DE-B73B-7ABC2DC8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86100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7F4-72D4-43AE-81E0-8CC41D26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032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288-E91E-4262-9DCE-3A48FBE9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52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12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52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12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6F6-1FB2-41BD-B310-68B238F6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9EB9-4E68-4D74-9AFC-022AC290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43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8C6A-55C0-4D25-9D83-46B32D2A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43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7AFF-99CA-467A-8204-9F69E0F8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FA20-279D-4635-B057-25412C01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54DD-1BB5-48A0-A8B6-7B1967AB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436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4592-838E-40DE-9A2A-156A7A41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3ED2-5B3E-48F1-B9E8-CAD55ED4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43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DA0-6878-45B4-B5BB-CADB62C7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9032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9DE2-2FE6-4A1B-A113-3FCA8388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C1A2-F7FF-4FAC-BB19-E03CFF1C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42560" y="386100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84E3-BCDD-419F-9EE6-EDF6E6E1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032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4DB1-0DCC-45D8-AD66-FD54D69A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752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212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4256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752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212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3395-E5CE-49B8-9444-A2EDA1E2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3B270-31D9-4A52-8F00-10430782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43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B29AC-6FF8-439A-A0C1-8540C28B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43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90BC4-D072-4AE3-8F4B-37CC5560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37238-271A-4696-9751-D757CDC3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DC09D-BBC2-49A0-9B08-D01F50ED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43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836-7784-414C-AC39-C73E8028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436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CE935-79D9-4BDB-8AFF-22FCC132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DF349-76E4-4BB7-84C0-BA9F03AE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9032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CED32-C5EC-4023-9E86-BAC3C2C4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7EAFC-C4CB-4DC5-8434-6B488962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042560" y="386100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92F70-32F3-4C1E-AD45-AD777AC7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9032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163B1-3B5D-4700-AD9F-10325633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4752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5212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04256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4752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25212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46736-6EC7-4BF2-9F0B-09A28137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BF45D-4ECA-4225-BF02-64935BD9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43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A4274-BD59-4258-AEC0-964487F8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43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ABC3E-0F03-4419-9B4E-1EE4E1A6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F5C-6C39-42BD-896A-EB04FF0A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48D24-1CFE-4E02-A101-CA9E3D98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57D54-483E-43E7-8C53-25B405AC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436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55ECF-FEFC-4F43-8998-CD209BE4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4C745-C1DF-4020-9414-95A1372B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9032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F2306-F503-4EE5-AAE1-FD059CDF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4ED10-F488-40ED-8FA0-F3397836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042560" y="386100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4E83C-9940-45BF-AF98-8DDB025D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9032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2A1D2-CA6F-46FA-89C9-9BD81054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4752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52120" y="130464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04256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4752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252120" y="3861000"/>
            <a:ext cx="2480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6BBA3-B7C0-423E-B3C9-BE4515EC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6EB-FDDC-43FD-9356-096CA875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436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56B8-CF13-4F26-9AB0-8506CA20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A58B-5EB2-4117-B1AE-7CA5DEB8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0320" y="386100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F4F-4CBE-4153-948F-1740DC54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0320" y="1304640"/>
            <a:ext cx="3759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861000"/>
            <a:ext cx="77043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B4C-5559-473D-8ED2-4F3286D5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E0B1C-8900-452C-AC56-C80D5E7B0737}" type="slidenum">
              <a:rPr b="0" lang="en-GB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36F16-E4E8-464F-95AE-C68A364C4841}" type="slidenum">
              <a:rPr b="0" lang="en-GB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436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43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1240" indent="-2840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042920" y="6308640"/>
            <a:ext cx="18367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053880" y="6308640"/>
            <a:ext cx="3635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843600" y="6308640"/>
            <a:ext cx="190368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Century Schoolbook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CF9A2-B1EF-478C-B027-C219EDB5DE5B}" type="slidenum">
              <a:rPr b="0" lang="en-GB" sz="1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19640" y="1828800"/>
            <a:ext cx="534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1225440" y="620064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303720" y="6200640"/>
            <a:ext cx="3635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7092720" y="620064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Century Schoolbook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4EA36-88B4-4FB3-A6D5-C7B9327DA900}" type="slidenum">
              <a:rPr b="0" lang="en-GB" sz="1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1240" indent="-2840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14360" y="456840"/>
            <a:ext cx="534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LARENCE"/>
                <a:ea typeface="CLARENCE"/>
              </a:rPr>
              <a:t>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428640" y="1371600"/>
            <a:ext cx="494676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26496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5156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LARENCE"/>
                <a:ea typeface="CLARENCE"/>
              </a:rPr>
              <a:t></a:t>
            </a:r>
            <a:r>
              <a:rPr b="0" lang="en-GB" sz="3200" spc="-1" strike="noStrike">
                <a:solidFill>
                  <a:srgbClr val="000000"/>
                </a:solidFill>
                <a:latin typeface="CLARENCE"/>
                <a:ea typeface="CLARENCE"/>
              </a:rPr>
              <a:t>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26496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5156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LARENCE"/>
                <a:ea typeface="CLARENCE"/>
              </a:rPr>
              <a:t></a:t>
            </a:r>
            <a:r>
              <a:rPr b="0" lang="en-GB" sz="3200" spc="-1" strike="noStrike">
                <a:solidFill>
                  <a:srgbClr val="000000"/>
                </a:solidFill>
                <a:latin typeface="CLARENCE"/>
                <a:ea typeface="CLARENCE"/>
              </a:rPr>
              <a:t>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LARENCE"/>
                <a:ea typeface="CLARENCE"/>
              </a:rPr>
              <a:t></a:t>
            </a:r>
            <a:r>
              <a:rPr b="0" lang="en-GB" sz="3200" spc="-1" strike="noStrike">
                <a:solidFill>
                  <a:srgbClr val="000000"/>
                </a:solidFill>
                <a:latin typeface="CLARENCE"/>
                <a:ea typeface="CLARENCE"/>
              </a:rPr>
              <a:t>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26496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5156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LARENCE"/>
                <a:ea typeface="CLARENCE"/>
              </a:rPr>
              <a:t></a:t>
            </a:r>
            <a:r>
              <a:rPr b="0" lang="en-GB" sz="3200" spc="-1" strike="noStrike">
                <a:solidFill>
                  <a:srgbClr val="000000"/>
                </a:solidFill>
                <a:latin typeface="CLARENCE"/>
                <a:ea typeface="CLARENCE"/>
              </a:rPr>
              <a:t>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1"/>
          <a:srcRect l="0" t="53745" r="0" b="12895"/>
          <a:stretch/>
        </p:blipFill>
        <p:spPr>
          <a:xfrm>
            <a:off x="0" y="0"/>
            <a:ext cx="9144000" cy="578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" descr=""/>
          <p:cNvPicPr/>
          <p:nvPr/>
        </p:nvPicPr>
        <p:blipFill>
          <a:blip r:embed="rId1"/>
          <a:srcRect l="18077" t="25986" r="8230" b="27703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"/>
          <p:cNvPicPr/>
          <p:nvPr/>
        </p:nvPicPr>
        <p:blipFill>
          <a:blip r:embed="rId1"/>
          <a:srcRect l="0" t="0" r="410" b="49964"/>
          <a:stretch/>
        </p:blipFill>
        <p:spPr>
          <a:xfrm>
            <a:off x="1523880" y="0"/>
            <a:ext cx="61182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1"/>
          <a:srcRect l="0" t="50968" r="0" b="0"/>
          <a:stretch/>
        </p:blipFill>
        <p:spPr>
          <a:xfrm>
            <a:off x="1295280" y="0"/>
            <a:ext cx="64152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Social structure: Middle Clas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1752480" y="1752480"/>
            <a:ext cx="6096240" cy="3810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1752480" y="3048120"/>
            <a:ext cx="6096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1752480" y="4343400"/>
            <a:ext cx="6096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946680" y="646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590920" y="21337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per Middle Class: aristocratic business famil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666880" y="3429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ddle Middle Class: merchants, doctors, lawyers, successful but not wealt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2514600" y="44197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er middle class: shopkeepers, small business peo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1219320" y="57913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s: engineers, chemists, accountants, and managers. Teachers, dentists, and nurses rose up the ladder to become middle clas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Social Structure: Working Clas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80 % of the population comprised this cla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Many subsec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Labor aristocrac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Semiskilled and unskilled worker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Social changes in the 19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42560" y="1305000"/>
            <a:ext cx="770580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ublic drinking increas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Church attendance declin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llegitimacy decreased after 185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rostitution was comm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trong family t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Gender roles became more clearly defin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Bonds between parents and children strengthen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Birthrates declined for economic and social reas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Social Darwinism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Realism in art and litera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1676520" y="0"/>
            <a:ext cx="58672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line of Illiteracy in Europe - 1800-19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igures on this table are the percentage of newlyweds signing wedding certificates with an “X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838080" y="1143000"/>
            <a:ext cx="7504200" cy="5332320"/>
            <a:chOff x="838080" y="1143000"/>
            <a:chExt cx="7504200" cy="5332320"/>
          </a:xfrm>
        </p:grpSpPr>
        <p:grpSp>
          <p:nvGrpSpPr>
            <p:cNvPr id="207" name="Group 3"/>
            <p:cNvGrpSpPr/>
            <p:nvPr/>
          </p:nvGrpSpPr>
          <p:grpSpPr>
            <a:xfrm>
              <a:off x="845640" y="1145880"/>
              <a:ext cx="7484760" cy="5323680"/>
              <a:chOff x="845640" y="1145880"/>
              <a:chExt cx="7484760" cy="5323680"/>
            </a:xfrm>
          </p:grpSpPr>
          <p:grpSp>
            <p:nvGrpSpPr>
              <p:cNvPr id="208" name="Group 4"/>
              <p:cNvGrpSpPr/>
              <p:nvPr/>
            </p:nvGrpSpPr>
            <p:grpSpPr>
              <a:xfrm>
                <a:off x="845640" y="1145880"/>
                <a:ext cx="1118520" cy="482040"/>
                <a:chOff x="845640" y="1145880"/>
                <a:chExt cx="1118520" cy="482040"/>
              </a:xfrm>
            </p:grpSpPr>
            <p:sp>
              <p:nvSpPr>
                <p:cNvPr id="209" name="Rectangle 5"/>
                <p:cNvSpPr/>
                <p:nvPr/>
              </p:nvSpPr>
              <p:spPr>
                <a:xfrm>
                  <a:off x="963000" y="1145880"/>
                  <a:ext cx="8834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ate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6"/>
                <p:cNvSpPr/>
                <p:nvPr/>
              </p:nvSpPr>
              <p:spPr>
                <a:xfrm>
                  <a:off x="845640" y="1145880"/>
                  <a:ext cx="1118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7"/>
              <p:cNvGrpSpPr/>
              <p:nvPr/>
            </p:nvGrpSpPr>
            <p:grpSpPr>
              <a:xfrm>
                <a:off x="1965960" y="1145880"/>
                <a:ext cx="1438920" cy="482040"/>
                <a:chOff x="1965960" y="1145880"/>
                <a:chExt cx="1438920" cy="482040"/>
              </a:xfrm>
            </p:grpSpPr>
            <p:sp>
              <p:nvSpPr>
                <p:cNvPr id="212" name="Rectangle 8"/>
                <p:cNvSpPr/>
                <p:nvPr/>
              </p:nvSpPr>
              <p:spPr>
                <a:xfrm>
                  <a:off x="2081520" y="1145880"/>
                  <a:ext cx="12056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en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9"/>
                <p:cNvSpPr/>
                <p:nvPr/>
              </p:nvSpPr>
              <p:spPr>
                <a:xfrm>
                  <a:off x="1965960" y="1145880"/>
                  <a:ext cx="14389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10"/>
              <p:cNvGrpSpPr/>
              <p:nvPr/>
            </p:nvGrpSpPr>
            <p:grpSpPr>
              <a:xfrm>
                <a:off x="3404880" y="1145880"/>
                <a:ext cx="1291680" cy="482040"/>
                <a:chOff x="3404880" y="1145880"/>
                <a:chExt cx="1291680" cy="482040"/>
              </a:xfrm>
            </p:grpSpPr>
            <p:sp>
              <p:nvSpPr>
                <p:cNvPr id="215" name="Rectangle 11"/>
                <p:cNvSpPr/>
                <p:nvPr/>
              </p:nvSpPr>
              <p:spPr>
                <a:xfrm>
                  <a:off x="3522240" y="1145880"/>
                  <a:ext cx="105840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omen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12"/>
                <p:cNvSpPr/>
                <p:nvPr/>
              </p:nvSpPr>
              <p:spPr>
                <a:xfrm>
                  <a:off x="3404880" y="1145880"/>
                  <a:ext cx="1291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13"/>
              <p:cNvGrpSpPr/>
              <p:nvPr/>
            </p:nvGrpSpPr>
            <p:grpSpPr>
              <a:xfrm>
                <a:off x="4700160" y="1145880"/>
                <a:ext cx="639360" cy="482040"/>
                <a:chOff x="4700160" y="1145880"/>
                <a:chExt cx="639360" cy="482040"/>
              </a:xfrm>
            </p:grpSpPr>
            <p:sp>
              <p:nvSpPr>
                <p:cNvPr id="218" name="Rectangle 14"/>
                <p:cNvSpPr/>
                <p:nvPr/>
              </p:nvSpPr>
              <p:spPr>
                <a:xfrm>
                  <a:off x="4700160" y="1145880"/>
                  <a:ext cx="639360" cy="482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9" name="Group 15"/>
                <p:cNvGrpSpPr/>
                <p:nvPr/>
              </p:nvGrpSpPr>
              <p:grpSpPr>
                <a:xfrm>
                  <a:off x="4700160" y="1145880"/>
                  <a:ext cx="637920" cy="480240"/>
                  <a:chOff x="4700160" y="1145880"/>
                  <a:chExt cx="637920" cy="480240"/>
                </a:xfrm>
              </p:grpSpPr>
              <p:sp>
                <p:nvSpPr>
                  <p:cNvPr id="220" name="Rectangle 16"/>
                  <p:cNvSpPr/>
                  <p:nvPr/>
                </p:nvSpPr>
                <p:spPr>
                  <a:xfrm>
                    <a:off x="4816800" y="1145880"/>
                    <a:ext cx="405720" cy="480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Rectangle 17"/>
                  <p:cNvSpPr/>
                  <p:nvPr/>
                </p:nvSpPr>
                <p:spPr>
                  <a:xfrm>
                    <a:off x="4700160" y="1145880"/>
                    <a:ext cx="637920" cy="4802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2" name="Group 18"/>
              <p:cNvGrpSpPr/>
              <p:nvPr/>
            </p:nvGrpSpPr>
            <p:grpSpPr>
              <a:xfrm>
                <a:off x="5340960" y="1145880"/>
                <a:ext cx="1318680" cy="482040"/>
                <a:chOff x="5340960" y="1145880"/>
                <a:chExt cx="1318680" cy="482040"/>
              </a:xfrm>
            </p:grpSpPr>
            <p:sp>
              <p:nvSpPr>
                <p:cNvPr id="223" name="Rectangle 19"/>
                <p:cNvSpPr/>
                <p:nvPr/>
              </p:nvSpPr>
              <p:spPr>
                <a:xfrm>
                  <a:off x="5456520" y="1145880"/>
                  <a:ext cx="1085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en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Rectangle 20"/>
                <p:cNvSpPr/>
                <p:nvPr/>
              </p:nvSpPr>
              <p:spPr>
                <a:xfrm>
                  <a:off x="5340960" y="1145880"/>
                  <a:ext cx="1318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21"/>
              <p:cNvGrpSpPr/>
              <p:nvPr/>
            </p:nvGrpSpPr>
            <p:grpSpPr>
              <a:xfrm>
                <a:off x="6662880" y="1145880"/>
                <a:ext cx="1667520" cy="482040"/>
                <a:chOff x="6662880" y="1145880"/>
                <a:chExt cx="1667520" cy="482040"/>
              </a:xfrm>
            </p:grpSpPr>
            <p:sp>
              <p:nvSpPr>
                <p:cNvPr id="226" name="Rectangle 22"/>
                <p:cNvSpPr/>
                <p:nvPr/>
              </p:nvSpPr>
              <p:spPr>
                <a:xfrm>
                  <a:off x="6778440" y="1145880"/>
                  <a:ext cx="14342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omen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3"/>
                <p:cNvSpPr/>
                <p:nvPr/>
              </p:nvSpPr>
              <p:spPr>
                <a:xfrm>
                  <a:off x="6662880" y="1145880"/>
                  <a:ext cx="1667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24"/>
              <p:cNvGrpSpPr/>
              <p:nvPr/>
            </p:nvGrpSpPr>
            <p:grpSpPr>
              <a:xfrm>
                <a:off x="845640" y="1629720"/>
                <a:ext cx="1118520" cy="482040"/>
                <a:chOff x="845640" y="1629720"/>
                <a:chExt cx="1118520" cy="482040"/>
              </a:xfrm>
            </p:grpSpPr>
            <p:sp>
              <p:nvSpPr>
                <p:cNvPr id="229" name="Rectangle 25"/>
                <p:cNvSpPr/>
                <p:nvPr/>
              </p:nvSpPr>
              <p:spPr>
                <a:xfrm>
                  <a:off x="963000" y="1629720"/>
                  <a:ext cx="8834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80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Rectangle 26"/>
                <p:cNvSpPr/>
                <p:nvPr/>
              </p:nvSpPr>
              <p:spPr>
                <a:xfrm>
                  <a:off x="845640" y="1629720"/>
                  <a:ext cx="1118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Group 27"/>
              <p:cNvGrpSpPr/>
              <p:nvPr/>
            </p:nvGrpSpPr>
            <p:grpSpPr>
              <a:xfrm>
                <a:off x="1965960" y="1629720"/>
                <a:ext cx="1438920" cy="482040"/>
                <a:chOff x="1965960" y="1629720"/>
                <a:chExt cx="1438920" cy="482040"/>
              </a:xfrm>
            </p:grpSpPr>
            <p:sp>
              <p:nvSpPr>
                <p:cNvPr id="232" name="Rectangle 28"/>
                <p:cNvSpPr/>
                <p:nvPr/>
              </p:nvSpPr>
              <p:spPr>
                <a:xfrm>
                  <a:off x="2081520" y="1629720"/>
                  <a:ext cx="12056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Rectangle 29"/>
                <p:cNvSpPr/>
                <p:nvPr/>
              </p:nvSpPr>
              <p:spPr>
                <a:xfrm>
                  <a:off x="1965960" y="1629720"/>
                  <a:ext cx="14389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Group 30"/>
              <p:cNvGrpSpPr/>
              <p:nvPr/>
            </p:nvGrpSpPr>
            <p:grpSpPr>
              <a:xfrm>
                <a:off x="3404880" y="1629720"/>
                <a:ext cx="1291680" cy="482040"/>
                <a:chOff x="3404880" y="1629720"/>
                <a:chExt cx="1291680" cy="482040"/>
              </a:xfrm>
            </p:grpSpPr>
            <p:sp>
              <p:nvSpPr>
                <p:cNvPr id="235" name="Rectangle 31"/>
                <p:cNvSpPr/>
                <p:nvPr/>
              </p:nvSpPr>
              <p:spPr>
                <a:xfrm>
                  <a:off x="3522240" y="1629720"/>
                  <a:ext cx="105840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3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Rectangle 32"/>
                <p:cNvSpPr/>
                <p:nvPr/>
              </p:nvSpPr>
              <p:spPr>
                <a:xfrm>
                  <a:off x="3404880" y="1629720"/>
                  <a:ext cx="1291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Group 33"/>
              <p:cNvGrpSpPr/>
              <p:nvPr/>
            </p:nvGrpSpPr>
            <p:grpSpPr>
              <a:xfrm>
                <a:off x="4700160" y="1629720"/>
                <a:ext cx="639360" cy="482040"/>
                <a:chOff x="4700160" y="1629720"/>
                <a:chExt cx="639360" cy="482040"/>
              </a:xfrm>
            </p:grpSpPr>
            <p:sp>
              <p:nvSpPr>
                <p:cNvPr id="238" name="Rectangle 34"/>
                <p:cNvSpPr/>
                <p:nvPr/>
              </p:nvSpPr>
              <p:spPr>
                <a:xfrm>
                  <a:off x="4700160" y="1629720"/>
                  <a:ext cx="639360" cy="482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9" name="Group 35"/>
                <p:cNvGrpSpPr/>
                <p:nvPr/>
              </p:nvGrpSpPr>
              <p:grpSpPr>
                <a:xfrm>
                  <a:off x="4700160" y="1629720"/>
                  <a:ext cx="637920" cy="480240"/>
                  <a:chOff x="4700160" y="1629720"/>
                  <a:chExt cx="637920" cy="480240"/>
                </a:xfrm>
              </p:grpSpPr>
              <p:sp>
                <p:nvSpPr>
                  <p:cNvPr id="240" name="Rectangle 36"/>
                  <p:cNvSpPr/>
                  <p:nvPr/>
                </p:nvSpPr>
                <p:spPr>
                  <a:xfrm>
                    <a:off x="4816800" y="1629720"/>
                    <a:ext cx="405720" cy="480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Rectangle 37"/>
                  <p:cNvSpPr/>
                  <p:nvPr/>
                </p:nvSpPr>
                <p:spPr>
                  <a:xfrm>
                    <a:off x="4700160" y="1629720"/>
                    <a:ext cx="637920" cy="4802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2" name="Group 38"/>
              <p:cNvGrpSpPr/>
              <p:nvPr/>
            </p:nvGrpSpPr>
            <p:grpSpPr>
              <a:xfrm>
                <a:off x="5340960" y="1629720"/>
                <a:ext cx="1318680" cy="482040"/>
                <a:chOff x="5340960" y="1629720"/>
                <a:chExt cx="1318680" cy="482040"/>
              </a:xfrm>
            </p:grpSpPr>
            <p:sp>
              <p:nvSpPr>
                <p:cNvPr id="243" name="Rectangle 39"/>
                <p:cNvSpPr/>
                <p:nvPr/>
              </p:nvSpPr>
              <p:spPr>
                <a:xfrm>
                  <a:off x="5456520" y="1629720"/>
                  <a:ext cx="1085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2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0"/>
                <p:cNvSpPr/>
                <p:nvPr/>
              </p:nvSpPr>
              <p:spPr>
                <a:xfrm>
                  <a:off x="5340960" y="1629720"/>
                  <a:ext cx="1318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41"/>
              <p:cNvGrpSpPr/>
              <p:nvPr/>
            </p:nvGrpSpPr>
            <p:grpSpPr>
              <a:xfrm>
                <a:off x="6662880" y="1629720"/>
                <a:ext cx="1667520" cy="482040"/>
                <a:chOff x="6662880" y="1629720"/>
                <a:chExt cx="1667520" cy="482040"/>
              </a:xfrm>
            </p:grpSpPr>
            <p:sp>
              <p:nvSpPr>
                <p:cNvPr id="246" name="Rectangle 42"/>
                <p:cNvSpPr/>
                <p:nvPr/>
              </p:nvSpPr>
              <p:spPr>
                <a:xfrm>
                  <a:off x="6778440" y="1629720"/>
                  <a:ext cx="14342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43"/>
                <p:cNvSpPr/>
                <p:nvPr/>
              </p:nvSpPr>
              <p:spPr>
                <a:xfrm>
                  <a:off x="6662880" y="1629720"/>
                  <a:ext cx="1667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44"/>
              <p:cNvGrpSpPr/>
              <p:nvPr/>
            </p:nvGrpSpPr>
            <p:grpSpPr>
              <a:xfrm>
                <a:off x="845640" y="2113920"/>
                <a:ext cx="1118520" cy="482040"/>
                <a:chOff x="845640" y="2113920"/>
                <a:chExt cx="1118520" cy="482040"/>
              </a:xfrm>
            </p:grpSpPr>
            <p:sp>
              <p:nvSpPr>
                <p:cNvPr id="249" name="Rectangle 45"/>
                <p:cNvSpPr/>
                <p:nvPr/>
              </p:nvSpPr>
              <p:spPr>
                <a:xfrm>
                  <a:off x="963000" y="2113920"/>
                  <a:ext cx="8834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82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46"/>
                <p:cNvSpPr/>
                <p:nvPr/>
              </p:nvSpPr>
              <p:spPr>
                <a:xfrm>
                  <a:off x="845640" y="2113920"/>
                  <a:ext cx="1118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47"/>
              <p:cNvGrpSpPr/>
              <p:nvPr/>
            </p:nvGrpSpPr>
            <p:grpSpPr>
              <a:xfrm>
                <a:off x="1965960" y="2113920"/>
                <a:ext cx="1438920" cy="482040"/>
                <a:chOff x="1965960" y="2113920"/>
                <a:chExt cx="1438920" cy="482040"/>
              </a:xfrm>
            </p:grpSpPr>
            <p:sp>
              <p:nvSpPr>
                <p:cNvPr id="252" name="Rectangle 48"/>
                <p:cNvSpPr/>
                <p:nvPr/>
              </p:nvSpPr>
              <p:spPr>
                <a:xfrm>
                  <a:off x="2081520" y="2113920"/>
                  <a:ext cx="12056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49"/>
                <p:cNvSpPr/>
                <p:nvPr/>
              </p:nvSpPr>
              <p:spPr>
                <a:xfrm>
                  <a:off x="1965960" y="2113920"/>
                  <a:ext cx="14389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50"/>
              <p:cNvGrpSpPr/>
              <p:nvPr/>
            </p:nvGrpSpPr>
            <p:grpSpPr>
              <a:xfrm>
                <a:off x="3404880" y="2113920"/>
                <a:ext cx="1291680" cy="482040"/>
                <a:chOff x="3404880" y="2113920"/>
                <a:chExt cx="1291680" cy="482040"/>
              </a:xfrm>
            </p:grpSpPr>
            <p:sp>
              <p:nvSpPr>
                <p:cNvPr id="255" name="Rectangle 51"/>
                <p:cNvSpPr/>
                <p:nvPr/>
              </p:nvSpPr>
              <p:spPr>
                <a:xfrm>
                  <a:off x="3522240" y="2113920"/>
                  <a:ext cx="105840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52"/>
                <p:cNvSpPr/>
                <p:nvPr/>
              </p:nvSpPr>
              <p:spPr>
                <a:xfrm>
                  <a:off x="3404880" y="2113920"/>
                  <a:ext cx="1291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3"/>
              <p:cNvGrpSpPr/>
              <p:nvPr/>
            </p:nvGrpSpPr>
            <p:grpSpPr>
              <a:xfrm>
                <a:off x="4700160" y="2113920"/>
                <a:ext cx="639360" cy="482040"/>
                <a:chOff x="4700160" y="2113920"/>
                <a:chExt cx="639360" cy="482040"/>
              </a:xfrm>
            </p:grpSpPr>
            <p:sp>
              <p:nvSpPr>
                <p:cNvPr id="258" name="Rectangle 54"/>
                <p:cNvSpPr/>
                <p:nvPr/>
              </p:nvSpPr>
              <p:spPr>
                <a:xfrm>
                  <a:off x="4700160" y="2113920"/>
                  <a:ext cx="639360" cy="482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9" name="Group 55"/>
                <p:cNvGrpSpPr/>
                <p:nvPr/>
              </p:nvGrpSpPr>
              <p:grpSpPr>
                <a:xfrm>
                  <a:off x="4700160" y="2113920"/>
                  <a:ext cx="637920" cy="480240"/>
                  <a:chOff x="4700160" y="2113920"/>
                  <a:chExt cx="637920" cy="480240"/>
                </a:xfrm>
              </p:grpSpPr>
              <p:sp>
                <p:nvSpPr>
                  <p:cNvPr id="260" name="Rectangle 56"/>
                  <p:cNvSpPr/>
                  <p:nvPr/>
                </p:nvSpPr>
                <p:spPr>
                  <a:xfrm>
                    <a:off x="4816800" y="2113920"/>
                    <a:ext cx="405720" cy="480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Rectangle 57"/>
                  <p:cNvSpPr/>
                  <p:nvPr/>
                </p:nvSpPr>
                <p:spPr>
                  <a:xfrm>
                    <a:off x="4700160" y="2113920"/>
                    <a:ext cx="637920" cy="4802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2" name="Group 58"/>
              <p:cNvGrpSpPr/>
              <p:nvPr/>
            </p:nvGrpSpPr>
            <p:grpSpPr>
              <a:xfrm>
                <a:off x="5340960" y="2113920"/>
                <a:ext cx="1318680" cy="482040"/>
                <a:chOff x="5340960" y="2113920"/>
                <a:chExt cx="1318680" cy="482040"/>
              </a:xfrm>
            </p:grpSpPr>
            <p:sp>
              <p:nvSpPr>
                <p:cNvPr id="263" name="Rectangle 59"/>
                <p:cNvSpPr/>
                <p:nvPr/>
              </p:nvSpPr>
              <p:spPr>
                <a:xfrm>
                  <a:off x="5456520" y="2113920"/>
                  <a:ext cx="1085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6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60"/>
                <p:cNvSpPr/>
                <p:nvPr/>
              </p:nvSpPr>
              <p:spPr>
                <a:xfrm>
                  <a:off x="5340960" y="2113920"/>
                  <a:ext cx="1318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Group 61"/>
              <p:cNvGrpSpPr/>
              <p:nvPr/>
            </p:nvGrpSpPr>
            <p:grpSpPr>
              <a:xfrm>
                <a:off x="6662880" y="2113920"/>
                <a:ext cx="1667520" cy="482040"/>
                <a:chOff x="6662880" y="2113920"/>
                <a:chExt cx="1667520" cy="482040"/>
              </a:xfrm>
            </p:grpSpPr>
            <p:sp>
              <p:nvSpPr>
                <p:cNvPr id="266" name="Rectangle 62"/>
                <p:cNvSpPr/>
                <p:nvPr/>
              </p:nvSpPr>
              <p:spPr>
                <a:xfrm>
                  <a:off x="6778440" y="2113920"/>
                  <a:ext cx="14342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5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Rectangle 63"/>
                <p:cNvSpPr/>
                <p:nvPr/>
              </p:nvSpPr>
              <p:spPr>
                <a:xfrm>
                  <a:off x="6662880" y="2113920"/>
                  <a:ext cx="1667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Group 64"/>
              <p:cNvGrpSpPr/>
              <p:nvPr/>
            </p:nvGrpSpPr>
            <p:grpSpPr>
              <a:xfrm>
                <a:off x="845640" y="2597760"/>
                <a:ext cx="1118520" cy="482040"/>
                <a:chOff x="845640" y="2597760"/>
                <a:chExt cx="1118520" cy="482040"/>
              </a:xfrm>
            </p:grpSpPr>
            <p:sp>
              <p:nvSpPr>
                <p:cNvPr id="269" name="Rectangle 65"/>
                <p:cNvSpPr/>
                <p:nvPr/>
              </p:nvSpPr>
              <p:spPr>
                <a:xfrm>
                  <a:off x="963000" y="2597760"/>
                  <a:ext cx="8834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83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66"/>
                <p:cNvSpPr/>
                <p:nvPr/>
              </p:nvSpPr>
              <p:spPr>
                <a:xfrm>
                  <a:off x="845640" y="2597760"/>
                  <a:ext cx="1118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67"/>
              <p:cNvGrpSpPr/>
              <p:nvPr/>
            </p:nvGrpSpPr>
            <p:grpSpPr>
              <a:xfrm>
                <a:off x="1965960" y="2597760"/>
                <a:ext cx="1438920" cy="482040"/>
                <a:chOff x="1965960" y="2597760"/>
                <a:chExt cx="1438920" cy="482040"/>
              </a:xfrm>
            </p:grpSpPr>
            <p:sp>
              <p:nvSpPr>
                <p:cNvPr id="272" name="Rectangle 68"/>
                <p:cNvSpPr/>
                <p:nvPr/>
              </p:nvSpPr>
              <p:spPr>
                <a:xfrm>
                  <a:off x="2081520" y="2597760"/>
                  <a:ext cx="12056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69"/>
                <p:cNvSpPr/>
                <p:nvPr/>
              </p:nvSpPr>
              <p:spPr>
                <a:xfrm>
                  <a:off x="1965960" y="2597760"/>
                  <a:ext cx="14389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70"/>
              <p:cNvGrpSpPr/>
              <p:nvPr/>
            </p:nvGrpSpPr>
            <p:grpSpPr>
              <a:xfrm>
                <a:off x="3404880" y="2597760"/>
                <a:ext cx="1291680" cy="482040"/>
                <a:chOff x="3404880" y="2597760"/>
                <a:chExt cx="1291680" cy="482040"/>
              </a:xfrm>
            </p:grpSpPr>
            <p:sp>
              <p:nvSpPr>
                <p:cNvPr id="275" name="Rectangle 71"/>
                <p:cNvSpPr/>
                <p:nvPr/>
              </p:nvSpPr>
              <p:spPr>
                <a:xfrm>
                  <a:off x="3522240" y="2597760"/>
                  <a:ext cx="105840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72"/>
                <p:cNvSpPr/>
                <p:nvPr/>
              </p:nvSpPr>
              <p:spPr>
                <a:xfrm>
                  <a:off x="3404880" y="2597760"/>
                  <a:ext cx="1291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73"/>
              <p:cNvGrpSpPr/>
              <p:nvPr/>
            </p:nvGrpSpPr>
            <p:grpSpPr>
              <a:xfrm>
                <a:off x="4700160" y="2597760"/>
                <a:ext cx="639360" cy="482040"/>
                <a:chOff x="4700160" y="2597760"/>
                <a:chExt cx="639360" cy="482040"/>
              </a:xfrm>
            </p:grpSpPr>
            <p:sp>
              <p:nvSpPr>
                <p:cNvPr id="278" name="Rectangle 74"/>
                <p:cNvSpPr/>
                <p:nvPr/>
              </p:nvSpPr>
              <p:spPr>
                <a:xfrm>
                  <a:off x="4700160" y="2597760"/>
                  <a:ext cx="639360" cy="482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79" name="Group 75"/>
                <p:cNvGrpSpPr/>
                <p:nvPr/>
              </p:nvGrpSpPr>
              <p:grpSpPr>
                <a:xfrm>
                  <a:off x="4700160" y="2597760"/>
                  <a:ext cx="637920" cy="480240"/>
                  <a:chOff x="4700160" y="2597760"/>
                  <a:chExt cx="637920" cy="480240"/>
                </a:xfrm>
              </p:grpSpPr>
              <p:sp>
                <p:nvSpPr>
                  <p:cNvPr id="280" name="Rectangle 76"/>
                  <p:cNvSpPr/>
                  <p:nvPr/>
                </p:nvSpPr>
                <p:spPr>
                  <a:xfrm>
                    <a:off x="4816800" y="2597760"/>
                    <a:ext cx="405720" cy="480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Rectangle 77"/>
                  <p:cNvSpPr/>
                  <p:nvPr/>
                </p:nvSpPr>
                <p:spPr>
                  <a:xfrm>
                    <a:off x="4700160" y="2597760"/>
                    <a:ext cx="637920" cy="4802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2" name="Group 78"/>
              <p:cNvGrpSpPr/>
              <p:nvPr/>
            </p:nvGrpSpPr>
            <p:grpSpPr>
              <a:xfrm>
                <a:off x="5340960" y="2597760"/>
                <a:ext cx="1318680" cy="482040"/>
                <a:chOff x="5340960" y="2597760"/>
                <a:chExt cx="1318680" cy="482040"/>
              </a:xfrm>
            </p:grpSpPr>
            <p:sp>
              <p:nvSpPr>
                <p:cNvPr id="283" name="Rectangle 79"/>
                <p:cNvSpPr/>
                <p:nvPr/>
              </p:nvSpPr>
              <p:spPr>
                <a:xfrm>
                  <a:off x="5456520" y="2597760"/>
                  <a:ext cx="1085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Rectangle 80"/>
                <p:cNvSpPr/>
                <p:nvPr/>
              </p:nvSpPr>
              <p:spPr>
                <a:xfrm>
                  <a:off x="5340960" y="2597760"/>
                  <a:ext cx="1318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81"/>
              <p:cNvGrpSpPr/>
              <p:nvPr/>
            </p:nvGrpSpPr>
            <p:grpSpPr>
              <a:xfrm>
                <a:off x="6662880" y="2597760"/>
                <a:ext cx="1667520" cy="482040"/>
                <a:chOff x="6662880" y="2597760"/>
                <a:chExt cx="1667520" cy="482040"/>
              </a:xfrm>
            </p:grpSpPr>
            <p:sp>
              <p:nvSpPr>
                <p:cNvPr id="286" name="Rectangle 82"/>
                <p:cNvSpPr/>
                <p:nvPr/>
              </p:nvSpPr>
              <p:spPr>
                <a:xfrm>
                  <a:off x="6778440" y="2597760"/>
                  <a:ext cx="14342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83"/>
                <p:cNvSpPr/>
                <p:nvPr/>
              </p:nvSpPr>
              <p:spPr>
                <a:xfrm>
                  <a:off x="6662880" y="2597760"/>
                  <a:ext cx="1667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84"/>
              <p:cNvGrpSpPr/>
              <p:nvPr/>
            </p:nvGrpSpPr>
            <p:grpSpPr>
              <a:xfrm>
                <a:off x="845640" y="3081960"/>
                <a:ext cx="1118520" cy="482040"/>
                <a:chOff x="845640" y="3081960"/>
                <a:chExt cx="1118520" cy="482040"/>
              </a:xfrm>
            </p:grpSpPr>
            <p:sp>
              <p:nvSpPr>
                <p:cNvPr id="289" name="Rectangle 85"/>
                <p:cNvSpPr/>
                <p:nvPr/>
              </p:nvSpPr>
              <p:spPr>
                <a:xfrm>
                  <a:off x="963000" y="3081960"/>
                  <a:ext cx="8834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84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86"/>
                <p:cNvSpPr/>
                <p:nvPr/>
              </p:nvSpPr>
              <p:spPr>
                <a:xfrm>
                  <a:off x="845640" y="3081960"/>
                  <a:ext cx="1118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87"/>
              <p:cNvGrpSpPr/>
              <p:nvPr/>
            </p:nvGrpSpPr>
            <p:grpSpPr>
              <a:xfrm>
                <a:off x="1965960" y="3081960"/>
                <a:ext cx="1438920" cy="482040"/>
                <a:chOff x="1965960" y="3081960"/>
                <a:chExt cx="1438920" cy="482040"/>
              </a:xfrm>
            </p:grpSpPr>
            <p:sp>
              <p:nvSpPr>
                <p:cNvPr id="292" name="Rectangle 88"/>
                <p:cNvSpPr/>
                <p:nvPr/>
              </p:nvSpPr>
              <p:spPr>
                <a:xfrm>
                  <a:off x="2081520" y="3081960"/>
                  <a:ext cx="12056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3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89"/>
                <p:cNvSpPr/>
                <p:nvPr/>
              </p:nvSpPr>
              <p:spPr>
                <a:xfrm>
                  <a:off x="1965960" y="3081960"/>
                  <a:ext cx="14389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Group 90"/>
              <p:cNvGrpSpPr/>
              <p:nvPr/>
            </p:nvGrpSpPr>
            <p:grpSpPr>
              <a:xfrm>
                <a:off x="3404880" y="3081960"/>
                <a:ext cx="1291680" cy="482040"/>
                <a:chOff x="3404880" y="3081960"/>
                <a:chExt cx="1291680" cy="482040"/>
              </a:xfrm>
            </p:grpSpPr>
            <p:sp>
              <p:nvSpPr>
                <p:cNvPr id="295" name="Rectangle 91"/>
                <p:cNvSpPr/>
                <p:nvPr/>
              </p:nvSpPr>
              <p:spPr>
                <a:xfrm>
                  <a:off x="3522240" y="3081960"/>
                  <a:ext cx="105840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9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Rectangle 92"/>
                <p:cNvSpPr/>
                <p:nvPr/>
              </p:nvSpPr>
              <p:spPr>
                <a:xfrm>
                  <a:off x="3404880" y="3081960"/>
                  <a:ext cx="1291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93"/>
              <p:cNvGrpSpPr/>
              <p:nvPr/>
            </p:nvGrpSpPr>
            <p:grpSpPr>
              <a:xfrm>
                <a:off x="4700160" y="3081960"/>
                <a:ext cx="639360" cy="482040"/>
                <a:chOff x="4700160" y="3081960"/>
                <a:chExt cx="639360" cy="482040"/>
              </a:xfrm>
            </p:grpSpPr>
            <p:sp>
              <p:nvSpPr>
                <p:cNvPr id="298" name="Rectangle 94"/>
                <p:cNvSpPr/>
                <p:nvPr/>
              </p:nvSpPr>
              <p:spPr>
                <a:xfrm>
                  <a:off x="4700160" y="3081960"/>
                  <a:ext cx="639360" cy="482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9" name="Group 95"/>
                <p:cNvGrpSpPr/>
                <p:nvPr/>
              </p:nvGrpSpPr>
              <p:grpSpPr>
                <a:xfrm>
                  <a:off x="4700160" y="3081960"/>
                  <a:ext cx="637920" cy="480240"/>
                  <a:chOff x="4700160" y="3081960"/>
                  <a:chExt cx="637920" cy="480240"/>
                </a:xfrm>
              </p:grpSpPr>
              <p:sp>
                <p:nvSpPr>
                  <p:cNvPr id="300" name="Rectangle 96"/>
                  <p:cNvSpPr/>
                  <p:nvPr/>
                </p:nvSpPr>
                <p:spPr>
                  <a:xfrm>
                    <a:off x="4816800" y="3081960"/>
                    <a:ext cx="405720" cy="480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Rectangle 97"/>
                  <p:cNvSpPr/>
                  <p:nvPr/>
                </p:nvSpPr>
                <p:spPr>
                  <a:xfrm>
                    <a:off x="4700160" y="3081960"/>
                    <a:ext cx="637920" cy="4802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Group 98"/>
              <p:cNvGrpSpPr/>
              <p:nvPr/>
            </p:nvGrpSpPr>
            <p:grpSpPr>
              <a:xfrm>
                <a:off x="5340960" y="3081960"/>
                <a:ext cx="1318680" cy="482040"/>
                <a:chOff x="5340960" y="3081960"/>
                <a:chExt cx="1318680" cy="482040"/>
              </a:xfrm>
            </p:grpSpPr>
            <p:sp>
              <p:nvSpPr>
                <p:cNvPr id="303" name="Rectangle 99"/>
                <p:cNvSpPr/>
                <p:nvPr/>
              </p:nvSpPr>
              <p:spPr>
                <a:xfrm>
                  <a:off x="5456520" y="3081960"/>
                  <a:ext cx="1085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100"/>
                <p:cNvSpPr/>
                <p:nvPr/>
              </p:nvSpPr>
              <p:spPr>
                <a:xfrm>
                  <a:off x="5340960" y="3081960"/>
                  <a:ext cx="1318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101"/>
              <p:cNvGrpSpPr/>
              <p:nvPr/>
            </p:nvGrpSpPr>
            <p:grpSpPr>
              <a:xfrm>
                <a:off x="6662880" y="3081960"/>
                <a:ext cx="1667520" cy="482040"/>
                <a:chOff x="6662880" y="3081960"/>
                <a:chExt cx="1667520" cy="482040"/>
              </a:xfrm>
            </p:grpSpPr>
            <p:sp>
              <p:nvSpPr>
                <p:cNvPr id="306" name="Rectangle 102"/>
                <p:cNvSpPr/>
                <p:nvPr/>
              </p:nvSpPr>
              <p:spPr>
                <a:xfrm>
                  <a:off x="6778440" y="3081960"/>
                  <a:ext cx="14342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103"/>
                <p:cNvSpPr/>
                <p:nvPr/>
              </p:nvSpPr>
              <p:spPr>
                <a:xfrm>
                  <a:off x="6662880" y="3081960"/>
                  <a:ext cx="1667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Group 104"/>
              <p:cNvGrpSpPr/>
              <p:nvPr/>
            </p:nvGrpSpPr>
            <p:grpSpPr>
              <a:xfrm>
                <a:off x="845640" y="3565800"/>
                <a:ext cx="1118520" cy="482040"/>
                <a:chOff x="845640" y="3565800"/>
                <a:chExt cx="1118520" cy="482040"/>
              </a:xfrm>
            </p:grpSpPr>
            <p:sp>
              <p:nvSpPr>
                <p:cNvPr id="309" name="Rectangle 105"/>
                <p:cNvSpPr/>
                <p:nvPr/>
              </p:nvSpPr>
              <p:spPr>
                <a:xfrm>
                  <a:off x="963000" y="3565800"/>
                  <a:ext cx="8834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85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106"/>
                <p:cNvSpPr/>
                <p:nvPr/>
              </p:nvSpPr>
              <p:spPr>
                <a:xfrm>
                  <a:off x="845640" y="3565800"/>
                  <a:ext cx="1118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Group 107"/>
              <p:cNvGrpSpPr/>
              <p:nvPr/>
            </p:nvGrpSpPr>
            <p:grpSpPr>
              <a:xfrm>
                <a:off x="1965960" y="3565800"/>
                <a:ext cx="1438920" cy="482040"/>
                <a:chOff x="1965960" y="3565800"/>
                <a:chExt cx="1438920" cy="482040"/>
              </a:xfrm>
            </p:grpSpPr>
            <p:sp>
              <p:nvSpPr>
                <p:cNvPr id="312" name="Rectangle 108"/>
                <p:cNvSpPr/>
                <p:nvPr/>
              </p:nvSpPr>
              <p:spPr>
                <a:xfrm>
                  <a:off x="2081520" y="3565800"/>
                  <a:ext cx="12056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1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Rectangle 109"/>
                <p:cNvSpPr/>
                <p:nvPr/>
              </p:nvSpPr>
              <p:spPr>
                <a:xfrm>
                  <a:off x="1965960" y="3565800"/>
                  <a:ext cx="14389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110"/>
              <p:cNvGrpSpPr/>
              <p:nvPr/>
            </p:nvGrpSpPr>
            <p:grpSpPr>
              <a:xfrm>
                <a:off x="3404880" y="3565800"/>
                <a:ext cx="1291680" cy="482040"/>
                <a:chOff x="3404880" y="3565800"/>
                <a:chExt cx="1291680" cy="482040"/>
              </a:xfrm>
            </p:grpSpPr>
            <p:sp>
              <p:nvSpPr>
                <p:cNvPr id="315" name="Rectangle 111"/>
                <p:cNvSpPr/>
                <p:nvPr/>
              </p:nvSpPr>
              <p:spPr>
                <a:xfrm>
                  <a:off x="3522240" y="3565800"/>
                  <a:ext cx="105840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6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112"/>
                <p:cNvSpPr/>
                <p:nvPr/>
              </p:nvSpPr>
              <p:spPr>
                <a:xfrm>
                  <a:off x="3404880" y="3565800"/>
                  <a:ext cx="1291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113"/>
              <p:cNvGrpSpPr/>
              <p:nvPr/>
            </p:nvGrpSpPr>
            <p:grpSpPr>
              <a:xfrm>
                <a:off x="4700160" y="3565800"/>
                <a:ext cx="639360" cy="482040"/>
                <a:chOff x="4700160" y="3565800"/>
                <a:chExt cx="639360" cy="482040"/>
              </a:xfrm>
            </p:grpSpPr>
            <p:sp>
              <p:nvSpPr>
                <p:cNvPr id="318" name="Rectangle 114"/>
                <p:cNvSpPr/>
                <p:nvPr/>
              </p:nvSpPr>
              <p:spPr>
                <a:xfrm>
                  <a:off x="4700160" y="3565800"/>
                  <a:ext cx="639360" cy="482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9" name="Group 115"/>
                <p:cNvGrpSpPr/>
                <p:nvPr/>
              </p:nvGrpSpPr>
              <p:grpSpPr>
                <a:xfrm>
                  <a:off x="4700160" y="3565800"/>
                  <a:ext cx="637920" cy="480240"/>
                  <a:chOff x="4700160" y="3565800"/>
                  <a:chExt cx="637920" cy="480240"/>
                </a:xfrm>
              </p:grpSpPr>
              <p:sp>
                <p:nvSpPr>
                  <p:cNvPr id="320" name="Rectangle 116"/>
                  <p:cNvSpPr/>
                  <p:nvPr/>
                </p:nvSpPr>
                <p:spPr>
                  <a:xfrm>
                    <a:off x="4816800" y="3565800"/>
                    <a:ext cx="405720" cy="480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Rectangle 117"/>
                  <p:cNvSpPr/>
                  <p:nvPr/>
                </p:nvSpPr>
                <p:spPr>
                  <a:xfrm>
                    <a:off x="4700160" y="3565800"/>
                    <a:ext cx="637920" cy="4802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2" name="Group 118"/>
              <p:cNvGrpSpPr/>
              <p:nvPr/>
            </p:nvGrpSpPr>
            <p:grpSpPr>
              <a:xfrm>
                <a:off x="5340960" y="3565800"/>
                <a:ext cx="1318680" cy="482040"/>
                <a:chOff x="5340960" y="3565800"/>
                <a:chExt cx="1318680" cy="482040"/>
              </a:xfrm>
            </p:grpSpPr>
            <p:sp>
              <p:nvSpPr>
                <p:cNvPr id="323" name="Rectangle 119"/>
                <p:cNvSpPr/>
                <p:nvPr/>
              </p:nvSpPr>
              <p:spPr>
                <a:xfrm>
                  <a:off x="5456520" y="3565800"/>
                  <a:ext cx="1085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120"/>
                <p:cNvSpPr/>
                <p:nvPr/>
              </p:nvSpPr>
              <p:spPr>
                <a:xfrm>
                  <a:off x="5340960" y="3565800"/>
                  <a:ext cx="1318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Group 121"/>
              <p:cNvGrpSpPr/>
              <p:nvPr/>
            </p:nvGrpSpPr>
            <p:grpSpPr>
              <a:xfrm>
                <a:off x="6662880" y="3565800"/>
                <a:ext cx="1667520" cy="482040"/>
                <a:chOff x="6662880" y="3565800"/>
                <a:chExt cx="1667520" cy="482040"/>
              </a:xfrm>
            </p:grpSpPr>
            <p:sp>
              <p:nvSpPr>
                <p:cNvPr id="326" name="Rectangle 122"/>
                <p:cNvSpPr/>
                <p:nvPr/>
              </p:nvSpPr>
              <p:spPr>
                <a:xfrm>
                  <a:off x="6778440" y="3565800"/>
                  <a:ext cx="14342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.a.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123"/>
                <p:cNvSpPr/>
                <p:nvPr/>
              </p:nvSpPr>
              <p:spPr>
                <a:xfrm>
                  <a:off x="6662880" y="3565800"/>
                  <a:ext cx="1667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Group 124"/>
              <p:cNvGrpSpPr/>
              <p:nvPr/>
            </p:nvGrpSpPr>
            <p:grpSpPr>
              <a:xfrm>
                <a:off x="845640" y="4050000"/>
                <a:ext cx="1118520" cy="482040"/>
                <a:chOff x="845640" y="4050000"/>
                <a:chExt cx="1118520" cy="482040"/>
              </a:xfrm>
            </p:grpSpPr>
            <p:sp>
              <p:nvSpPr>
                <p:cNvPr id="329" name="Rectangle 125"/>
                <p:cNvSpPr/>
                <p:nvPr/>
              </p:nvSpPr>
              <p:spPr>
                <a:xfrm>
                  <a:off x="963000" y="4050000"/>
                  <a:ext cx="8834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86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Rectangle 126"/>
                <p:cNvSpPr/>
                <p:nvPr/>
              </p:nvSpPr>
              <p:spPr>
                <a:xfrm>
                  <a:off x="845640" y="4050000"/>
                  <a:ext cx="1118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127"/>
              <p:cNvGrpSpPr/>
              <p:nvPr/>
            </p:nvGrpSpPr>
            <p:grpSpPr>
              <a:xfrm>
                <a:off x="1965960" y="4050000"/>
                <a:ext cx="1438920" cy="482040"/>
                <a:chOff x="1965960" y="4050000"/>
                <a:chExt cx="1438920" cy="482040"/>
              </a:xfrm>
            </p:grpSpPr>
            <p:sp>
              <p:nvSpPr>
                <p:cNvPr id="332" name="Rectangle 128"/>
                <p:cNvSpPr/>
                <p:nvPr/>
              </p:nvSpPr>
              <p:spPr>
                <a:xfrm>
                  <a:off x="2081520" y="4050000"/>
                  <a:ext cx="12056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6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Rectangle 129"/>
                <p:cNvSpPr/>
                <p:nvPr/>
              </p:nvSpPr>
              <p:spPr>
                <a:xfrm>
                  <a:off x="1965960" y="4050000"/>
                  <a:ext cx="14389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130"/>
              <p:cNvGrpSpPr/>
              <p:nvPr/>
            </p:nvGrpSpPr>
            <p:grpSpPr>
              <a:xfrm>
                <a:off x="3404880" y="4050000"/>
                <a:ext cx="1291680" cy="482040"/>
                <a:chOff x="3404880" y="4050000"/>
                <a:chExt cx="1291680" cy="482040"/>
              </a:xfrm>
            </p:grpSpPr>
            <p:sp>
              <p:nvSpPr>
                <p:cNvPr id="335" name="Rectangle 131"/>
                <p:cNvSpPr/>
                <p:nvPr/>
              </p:nvSpPr>
              <p:spPr>
                <a:xfrm>
                  <a:off x="3522240" y="4050000"/>
                  <a:ext cx="105840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6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Rectangle 132"/>
                <p:cNvSpPr/>
                <p:nvPr/>
              </p:nvSpPr>
              <p:spPr>
                <a:xfrm>
                  <a:off x="3404880" y="4050000"/>
                  <a:ext cx="1291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Group 133"/>
              <p:cNvGrpSpPr/>
              <p:nvPr/>
            </p:nvGrpSpPr>
            <p:grpSpPr>
              <a:xfrm>
                <a:off x="4700160" y="4050000"/>
                <a:ext cx="639360" cy="482040"/>
                <a:chOff x="4700160" y="4050000"/>
                <a:chExt cx="639360" cy="482040"/>
              </a:xfrm>
            </p:grpSpPr>
            <p:sp>
              <p:nvSpPr>
                <p:cNvPr id="338" name="Rectangle 134"/>
                <p:cNvSpPr/>
                <p:nvPr/>
              </p:nvSpPr>
              <p:spPr>
                <a:xfrm>
                  <a:off x="4700160" y="4050000"/>
                  <a:ext cx="639360" cy="482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9" name="Group 135"/>
                <p:cNvGrpSpPr/>
                <p:nvPr/>
              </p:nvGrpSpPr>
              <p:grpSpPr>
                <a:xfrm>
                  <a:off x="4700160" y="4050000"/>
                  <a:ext cx="637920" cy="480240"/>
                  <a:chOff x="4700160" y="4050000"/>
                  <a:chExt cx="637920" cy="480240"/>
                </a:xfrm>
              </p:grpSpPr>
              <p:sp>
                <p:nvSpPr>
                  <p:cNvPr id="340" name="Rectangle 136"/>
                  <p:cNvSpPr/>
                  <p:nvPr/>
                </p:nvSpPr>
                <p:spPr>
                  <a:xfrm>
                    <a:off x="4816800" y="4050000"/>
                    <a:ext cx="405720" cy="480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Rectangle 137"/>
                  <p:cNvSpPr/>
                  <p:nvPr/>
                </p:nvSpPr>
                <p:spPr>
                  <a:xfrm>
                    <a:off x="4700160" y="4050000"/>
                    <a:ext cx="637920" cy="4802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2" name="Group 138"/>
              <p:cNvGrpSpPr/>
              <p:nvPr/>
            </p:nvGrpSpPr>
            <p:grpSpPr>
              <a:xfrm>
                <a:off x="5340960" y="4050000"/>
                <a:ext cx="1318680" cy="482040"/>
                <a:chOff x="5340960" y="4050000"/>
                <a:chExt cx="1318680" cy="482040"/>
              </a:xfrm>
            </p:grpSpPr>
            <p:sp>
              <p:nvSpPr>
                <p:cNvPr id="343" name="Rectangle 139"/>
                <p:cNvSpPr/>
                <p:nvPr/>
              </p:nvSpPr>
              <p:spPr>
                <a:xfrm>
                  <a:off x="5456520" y="4050000"/>
                  <a:ext cx="1085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40"/>
                <p:cNvSpPr/>
                <p:nvPr/>
              </p:nvSpPr>
              <p:spPr>
                <a:xfrm>
                  <a:off x="5340960" y="4050000"/>
                  <a:ext cx="1318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141"/>
              <p:cNvGrpSpPr/>
              <p:nvPr/>
            </p:nvGrpSpPr>
            <p:grpSpPr>
              <a:xfrm>
                <a:off x="6662880" y="4050000"/>
                <a:ext cx="1667520" cy="482040"/>
                <a:chOff x="6662880" y="4050000"/>
                <a:chExt cx="1667520" cy="482040"/>
              </a:xfrm>
            </p:grpSpPr>
            <p:sp>
              <p:nvSpPr>
                <p:cNvPr id="346" name="Rectangle 142"/>
                <p:cNvSpPr/>
                <p:nvPr/>
              </p:nvSpPr>
              <p:spPr>
                <a:xfrm>
                  <a:off x="6778440" y="4050000"/>
                  <a:ext cx="14342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5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43"/>
                <p:cNvSpPr/>
                <p:nvPr/>
              </p:nvSpPr>
              <p:spPr>
                <a:xfrm>
                  <a:off x="6662880" y="4050000"/>
                  <a:ext cx="1667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144"/>
              <p:cNvGrpSpPr/>
              <p:nvPr/>
            </p:nvGrpSpPr>
            <p:grpSpPr>
              <a:xfrm>
                <a:off x="845640" y="4535280"/>
                <a:ext cx="1118520" cy="482400"/>
                <a:chOff x="845640" y="4535280"/>
                <a:chExt cx="1118520" cy="482400"/>
              </a:xfrm>
            </p:grpSpPr>
            <p:sp>
              <p:nvSpPr>
                <p:cNvPr id="349" name="Rectangle 145"/>
                <p:cNvSpPr/>
                <p:nvPr/>
              </p:nvSpPr>
              <p:spPr>
                <a:xfrm>
                  <a:off x="963000" y="4535280"/>
                  <a:ext cx="8834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87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146"/>
                <p:cNvSpPr/>
                <p:nvPr/>
              </p:nvSpPr>
              <p:spPr>
                <a:xfrm>
                  <a:off x="845640" y="4535280"/>
                  <a:ext cx="1118520" cy="48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Group 147"/>
              <p:cNvGrpSpPr/>
              <p:nvPr/>
            </p:nvGrpSpPr>
            <p:grpSpPr>
              <a:xfrm>
                <a:off x="1965960" y="4535280"/>
                <a:ext cx="1438920" cy="482400"/>
                <a:chOff x="1965960" y="4535280"/>
                <a:chExt cx="1438920" cy="482400"/>
              </a:xfrm>
            </p:grpSpPr>
            <p:sp>
              <p:nvSpPr>
                <p:cNvPr id="352" name="Rectangle 148"/>
                <p:cNvSpPr/>
                <p:nvPr/>
              </p:nvSpPr>
              <p:spPr>
                <a:xfrm>
                  <a:off x="2081520" y="4535280"/>
                  <a:ext cx="12056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Rectangle 149"/>
                <p:cNvSpPr/>
                <p:nvPr/>
              </p:nvSpPr>
              <p:spPr>
                <a:xfrm>
                  <a:off x="1965960" y="4535280"/>
                  <a:ext cx="1438920" cy="48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150"/>
              <p:cNvGrpSpPr/>
              <p:nvPr/>
            </p:nvGrpSpPr>
            <p:grpSpPr>
              <a:xfrm>
                <a:off x="3404880" y="4535280"/>
                <a:ext cx="1291680" cy="482400"/>
                <a:chOff x="3404880" y="4535280"/>
                <a:chExt cx="1291680" cy="482400"/>
              </a:xfrm>
            </p:grpSpPr>
            <p:sp>
              <p:nvSpPr>
                <p:cNvPr id="355" name="Rectangle 151"/>
                <p:cNvSpPr/>
                <p:nvPr/>
              </p:nvSpPr>
              <p:spPr>
                <a:xfrm>
                  <a:off x="3522240" y="4535280"/>
                  <a:ext cx="105840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7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Rectangle 152"/>
                <p:cNvSpPr/>
                <p:nvPr/>
              </p:nvSpPr>
              <p:spPr>
                <a:xfrm>
                  <a:off x="3404880" y="4535280"/>
                  <a:ext cx="1291680" cy="48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Group 153"/>
              <p:cNvGrpSpPr/>
              <p:nvPr/>
            </p:nvGrpSpPr>
            <p:grpSpPr>
              <a:xfrm>
                <a:off x="4700160" y="4535280"/>
                <a:ext cx="639360" cy="482400"/>
                <a:chOff x="4700160" y="4535280"/>
                <a:chExt cx="639360" cy="482400"/>
              </a:xfrm>
            </p:grpSpPr>
            <p:sp>
              <p:nvSpPr>
                <p:cNvPr id="358" name="Rectangle 154"/>
                <p:cNvSpPr/>
                <p:nvPr/>
              </p:nvSpPr>
              <p:spPr>
                <a:xfrm>
                  <a:off x="4700160" y="4535280"/>
                  <a:ext cx="639360" cy="482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9" name="Group 155"/>
                <p:cNvGrpSpPr/>
                <p:nvPr/>
              </p:nvGrpSpPr>
              <p:grpSpPr>
                <a:xfrm>
                  <a:off x="4700160" y="4535280"/>
                  <a:ext cx="637920" cy="480960"/>
                  <a:chOff x="4700160" y="4535280"/>
                  <a:chExt cx="637920" cy="480960"/>
                </a:xfrm>
              </p:grpSpPr>
              <p:sp>
                <p:nvSpPr>
                  <p:cNvPr id="360" name="Rectangle 156"/>
                  <p:cNvSpPr/>
                  <p:nvPr/>
                </p:nvSpPr>
                <p:spPr>
                  <a:xfrm>
                    <a:off x="4816800" y="4535280"/>
                    <a:ext cx="405720" cy="4809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Rectangle 157"/>
                  <p:cNvSpPr/>
                  <p:nvPr/>
                </p:nvSpPr>
                <p:spPr>
                  <a:xfrm>
                    <a:off x="4700160" y="4535280"/>
                    <a:ext cx="637920" cy="48096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2" name="Group 158"/>
              <p:cNvGrpSpPr/>
              <p:nvPr/>
            </p:nvGrpSpPr>
            <p:grpSpPr>
              <a:xfrm>
                <a:off x="5340960" y="4535280"/>
                <a:ext cx="1318680" cy="482400"/>
                <a:chOff x="5340960" y="4535280"/>
                <a:chExt cx="1318680" cy="482400"/>
              </a:xfrm>
            </p:grpSpPr>
            <p:sp>
              <p:nvSpPr>
                <p:cNvPr id="363" name="Rectangle 159"/>
                <p:cNvSpPr/>
                <p:nvPr/>
              </p:nvSpPr>
              <p:spPr>
                <a:xfrm>
                  <a:off x="5456520" y="4535280"/>
                  <a:ext cx="10857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7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Rectangle 160"/>
                <p:cNvSpPr/>
                <p:nvPr/>
              </p:nvSpPr>
              <p:spPr>
                <a:xfrm>
                  <a:off x="5340960" y="4535280"/>
                  <a:ext cx="1318680" cy="48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161"/>
              <p:cNvGrpSpPr/>
              <p:nvPr/>
            </p:nvGrpSpPr>
            <p:grpSpPr>
              <a:xfrm>
                <a:off x="6662880" y="4535280"/>
                <a:ext cx="1667520" cy="482400"/>
                <a:chOff x="6662880" y="4535280"/>
                <a:chExt cx="1667520" cy="482400"/>
              </a:xfrm>
            </p:grpSpPr>
            <p:sp>
              <p:nvSpPr>
                <p:cNvPr id="366" name="Rectangle 162"/>
                <p:cNvSpPr/>
                <p:nvPr/>
              </p:nvSpPr>
              <p:spPr>
                <a:xfrm>
                  <a:off x="6778440" y="4535280"/>
                  <a:ext cx="14342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Rectangle 163"/>
                <p:cNvSpPr/>
                <p:nvPr/>
              </p:nvSpPr>
              <p:spPr>
                <a:xfrm>
                  <a:off x="6662880" y="4535280"/>
                  <a:ext cx="1667520" cy="48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Group 164"/>
              <p:cNvGrpSpPr/>
              <p:nvPr/>
            </p:nvGrpSpPr>
            <p:grpSpPr>
              <a:xfrm>
                <a:off x="845640" y="5019480"/>
                <a:ext cx="1118520" cy="482400"/>
                <a:chOff x="845640" y="5019480"/>
                <a:chExt cx="1118520" cy="482400"/>
              </a:xfrm>
            </p:grpSpPr>
            <p:sp>
              <p:nvSpPr>
                <p:cNvPr id="369" name="Rectangle 165"/>
                <p:cNvSpPr/>
                <p:nvPr/>
              </p:nvSpPr>
              <p:spPr>
                <a:xfrm>
                  <a:off x="963000" y="5019480"/>
                  <a:ext cx="8834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88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Rectangle 166"/>
                <p:cNvSpPr/>
                <p:nvPr/>
              </p:nvSpPr>
              <p:spPr>
                <a:xfrm>
                  <a:off x="845640" y="5019480"/>
                  <a:ext cx="1118520" cy="48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Group 167"/>
              <p:cNvGrpSpPr/>
              <p:nvPr/>
            </p:nvGrpSpPr>
            <p:grpSpPr>
              <a:xfrm>
                <a:off x="1965960" y="5019480"/>
                <a:ext cx="1438920" cy="482400"/>
                <a:chOff x="1965960" y="5019480"/>
                <a:chExt cx="1438920" cy="482400"/>
              </a:xfrm>
            </p:grpSpPr>
            <p:sp>
              <p:nvSpPr>
                <p:cNvPr id="372" name="Rectangle 168"/>
                <p:cNvSpPr/>
                <p:nvPr/>
              </p:nvSpPr>
              <p:spPr>
                <a:xfrm>
                  <a:off x="2081520" y="5019480"/>
                  <a:ext cx="12056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4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Rectangle 169"/>
                <p:cNvSpPr/>
                <p:nvPr/>
              </p:nvSpPr>
              <p:spPr>
                <a:xfrm>
                  <a:off x="1965960" y="5019480"/>
                  <a:ext cx="1438920" cy="48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Group 170"/>
              <p:cNvGrpSpPr/>
              <p:nvPr/>
            </p:nvGrpSpPr>
            <p:grpSpPr>
              <a:xfrm>
                <a:off x="3404880" y="5019480"/>
                <a:ext cx="1291680" cy="482400"/>
                <a:chOff x="3404880" y="5019480"/>
                <a:chExt cx="1291680" cy="482400"/>
              </a:xfrm>
            </p:grpSpPr>
            <p:sp>
              <p:nvSpPr>
                <p:cNvPr id="375" name="Rectangle 171"/>
                <p:cNvSpPr/>
                <p:nvPr/>
              </p:nvSpPr>
              <p:spPr>
                <a:xfrm>
                  <a:off x="3522240" y="5019480"/>
                  <a:ext cx="105840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9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Rectangle 172"/>
                <p:cNvSpPr/>
                <p:nvPr/>
              </p:nvSpPr>
              <p:spPr>
                <a:xfrm>
                  <a:off x="3404880" y="5019480"/>
                  <a:ext cx="1291680" cy="48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Group 173"/>
              <p:cNvGrpSpPr/>
              <p:nvPr/>
            </p:nvGrpSpPr>
            <p:grpSpPr>
              <a:xfrm>
                <a:off x="4700160" y="5019480"/>
                <a:ext cx="639360" cy="482400"/>
                <a:chOff x="4700160" y="5019480"/>
                <a:chExt cx="639360" cy="482400"/>
              </a:xfrm>
            </p:grpSpPr>
            <p:sp>
              <p:nvSpPr>
                <p:cNvPr id="378" name="Rectangle 174"/>
                <p:cNvSpPr/>
                <p:nvPr/>
              </p:nvSpPr>
              <p:spPr>
                <a:xfrm>
                  <a:off x="4700160" y="5019480"/>
                  <a:ext cx="639360" cy="482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9" name="Group 175"/>
                <p:cNvGrpSpPr/>
                <p:nvPr/>
              </p:nvGrpSpPr>
              <p:grpSpPr>
                <a:xfrm>
                  <a:off x="4700160" y="5019480"/>
                  <a:ext cx="637920" cy="480960"/>
                  <a:chOff x="4700160" y="5019480"/>
                  <a:chExt cx="637920" cy="480960"/>
                </a:xfrm>
              </p:grpSpPr>
              <p:sp>
                <p:nvSpPr>
                  <p:cNvPr id="380" name="Rectangle 176"/>
                  <p:cNvSpPr/>
                  <p:nvPr/>
                </p:nvSpPr>
                <p:spPr>
                  <a:xfrm>
                    <a:off x="4816800" y="5019480"/>
                    <a:ext cx="405720" cy="4809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Rectangle 177"/>
                  <p:cNvSpPr/>
                  <p:nvPr/>
                </p:nvSpPr>
                <p:spPr>
                  <a:xfrm>
                    <a:off x="4700160" y="5019480"/>
                    <a:ext cx="637920" cy="48096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2" name="Group 178"/>
              <p:cNvGrpSpPr/>
              <p:nvPr/>
            </p:nvGrpSpPr>
            <p:grpSpPr>
              <a:xfrm>
                <a:off x="5340960" y="5019480"/>
                <a:ext cx="1318680" cy="482400"/>
                <a:chOff x="5340960" y="5019480"/>
                <a:chExt cx="1318680" cy="482400"/>
              </a:xfrm>
            </p:grpSpPr>
            <p:sp>
              <p:nvSpPr>
                <p:cNvPr id="383" name="Rectangle 179"/>
                <p:cNvSpPr/>
                <p:nvPr/>
              </p:nvSpPr>
              <p:spPr>
                <a:xfrm>
                  <a:off x="5456520" y="5019480"/>
                  <a:ext cx="10857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6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Rectangle 180"/>
                <p:cNvSpPr/>
                <p:nvPr/>
              </p:nvSpPr>
              <p:spPr>
                <a:xfrm>
                  <a:off x="5340960" y="5019480"/>
                  <a:ext cx="1318680" cy="48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Group 181"/>
              <p:cNvGrpSpPr/>
              <p:nvPr/>
            </p:nvGrpSpPr>
            <p:grpSpPr>
              <a:xfrm>
                <a:off x="6662880" y="5019480"/>
                <a:ext cx="1667520" cy="482400"/>
                <a:chOff x="6662880" y="5019480"/>
                <a:chExt cx="1667520" cy="482400"/>
              </a:xfrm>
            </p:grpSpPr>
            <p:sp>
              <p:nvSpPr>
                <p:cNvPr id="386" name="Rectangle 182"/>
                <p:cNvSpPr/>
                <p:nvPr/>
              </p:nvSpPr>
              <p:spPr>
                <a:xfrm>
                  <a:off x="6778440" y="5019480"/>
                  <a:ext cx="14342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5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183"/>
                <p:cNvSpPr/>
                <p:nvPr/>
              </p:nvSpPr>
              <p:spPr>
                <a:xfrm>
                  <a:off x="6662880" y="5019480"/>
                  <a:ext cx="1667520" cy="482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Group 184"/>
              <p:cNvGrpSpPr/>
              <p:nvPr/>
            </p:nvGrpSpPr>
            <p:grpSpPr>
              <a:xfrm>
                <a:off x="845640" y="5503320"/>
                <a:ext cx="1118520" cy="482040"/>
                <a:chOff x="845640" y="5503320"/>
                <a:chExt cx="1118520" cy="482040"/>
              </a:xfrm>
            </p:grpSpPr>
            <p:sp>
              <p:nvSpPr>
                <p:cNvPr id="389" name="Rectangle 185"/>
                <p:cNvSpPr/>
                <p:nvPr/>
              </p:nvSpPr>
              <p:spPr>
                <a:xfrm>
                  <a:off x="963000" y="5503320"/>
                  <a:ext cx="8834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89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186"/>
                <p:cNvSpPr/>
                <p:nvPr/>
              </p:nvSpPr>
              <p:spPr>
                <a:xfrm>
                  <a:off x="845640" y="5503320"/>
                  <a:ext cx="1118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87"/>
              <p:cNvGrpSpPr/>
              <p:nvPr/>
            </p:nvGrpSpPr>
            <p:grpSpPr>
              <a:xfrm>
                <a:off x="1965960" y="5503320"/>
                <a:ext cx="1438920" cy="482040"/>
                <a:chOff x="1965960" y="5503320"/>
                <a:chExt cx="1438920" cy="482040"/>
              </a:xfrm>
            </p:grpSpPr>
            <p:sp>
              <p:nvSpPr>
                <p:cNvPr id="392" name="Rectangle 188"/>
                <p:cNvSpPr/>
                <p:nvPr/>
              </p:nvSpPr>
              <p:spPr>
                <a:xfrm>
                  <a:off x="2081520" y="5503320"/>
                  <a:ext cx="12056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189"/>
                <p:cNvSpPr/>
                <p:nvPr/>
              </p:nvSpPr>
              <p:spPr>
                <a:xfrm>
                  <a:off x="1965960" y="5503320"/>
                  <a:ext cx="14389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Group 190"/>
              <p:cNvGrpSpPr/>
              <p:nvPr/>
            </p:nvGrpSpPr>
            <p:grpSpPr>
              <a:xfrm>
                <a:off x="3404880" y="5503320"/>
                <a:ext cx="1291680" cy="482040"/>
                <a:chOff x="3404880" y="5503320"/>
                <a:chExt cx="1291680" cy="482040"/>
              </a:xfrm>
            </p:grpSpPr>
            <p:sp>
              <p:nvSpPr>
                <p:cNvPr id="395" name="Rectangle 191"/>
                <p:cNvSpPr/>
                <p:nvPr/>
              </p:nvSpPr>
              <p:spPr>
                <a:xfrm>
                  <a:off x="3522240" y="5503320"/>
                  <a:ext cx="105840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8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192"/>
                <p:cNvSpPr/>
                <p:nvPr/>
              </p:nvSpPr>
              <p:spPr>
                <a:xfrm>
                  <a:off x="3404880" y="5503320"/>
                  <a:ext cx="1291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Group 193"/>
              <p:cNvGrpSpPr/>
              <p:nvPr/>
            </p:nvGrpSpPr>
            <p:grpSpPr>
              <a:xfrm>
                <a:off x="4700160" y="5503320"/>
                <a:ext cx="639360" cy="482040"/>
                <a:chOff x="4700160" y="5503320"/>
                <a:chExt cx="639360" cy="482040"/>
              </a:xfrm>
            </p:grpSpPr>
            <p:sp>
              <p:nvSpPr>
                <p:cNvPr id="398" name="Rectangle 194"/>
                <p:cNvSpPr/>
                <p:nvPr/>
              </p:nvSpPr>
              <p:spPr>
                <a:xfrm>
                  <a:off x="4700160" y="5503320"/>
                  <a:ext cx="639360" cy="482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9" name="Group 195"/>
                <p:cNvGrpSpPr/>
                <p:nvPr/>
              </p:nvGrpSpPr>
              <p:grpSpPr>
                <a:xfrm>
                  <a:off x="4700160" y="5503320"/>
                  <a:ext cx="637920" cy="480240"/>
                  <a:chOff x="4700160" y="5503320"/>
                  <a:chExt cx="637920" cy="480240"/>
                </a:xfrm>
              </p:grpSpPr>
              <p:sp>
                <p:nvSpPr>
                  <p:cNvPr id="400" name="Rectangle 196"/>
                  <p:cNvSpPr/>
                  <p:nvPr/>
                </p:nvSpPr>
                <p:spPr>
                  <a:xfrm>
                    <a:off x="4816800" y="5503320"/>
                    <a:ext cx="405720" cy="480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Rectangle 197"/>
                  <p:cNvSpPr/>
                  <p:nvPr/>
                </p:nvSpPr>
                <p:spPr>
                  <a:xfrm>
                    <a:off x="4700160" y="5503320"/>
                    <a:ext cx="637920" cy="4802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2" name="Group 198"/>
              <p:cNvGrpSpPr/>
              <p:nvPr/>
            </p:nvGrpSpPr>
            <p:grpSpPr>
              <a:xfrm>
                <a:off x="5340960" y="5503320"/>
                <a:ext cx="1318680" cy="482040"/>
                <a:chOff x="5340960" y="5503320"/>
                <a:chExt cx="1318680" cy="482040"/>
              </a:xfrm>
            </p:grpSpPr>
            <p:sp>
              <p:nvSpPr>
                <p:cNvPr id="403" name="Rectangle 199"/>
                <p:cNvSpPr/>
                <p:nvPr/>
              </p:nvSpPr>
              <p:spPr>
                <a:xfrm>
                  <a:off x="5456520" y="5503320"/>
                  <a:ext cx="1085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Rectangle 200"/>
                <p:cNvSpPr/>
                <p:nvPr/>
              </p:nvSpPr>
              <p:spPr>
                <a:xfrm>
                  <a:off x="5340960" y="5503320"/>
                  <a:ext cx="1318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01"/>
              <p:cNvGrpSpPr/>
              <p:nvPr/>
            </p:nvGrpSpPr>
            <p:grpSpPr>
              <a:xfrm>
                <a:off x="6662880" y="5503320"/>
                <a:ext cx="1667520" cy="482040"/>
                <a:chOff x="6662880" y="5503320"/>
                <a:chExt cx="1667520" cy="482040"/>
              </a:xfrm>
            </p:grpSpPr>
            <p:sp>
              <p:nvSpPr>
                <p:cNvPr id="406" name="Rectangle 202"/>
                <p:cNvSpPr/>
                <p:nvPr/>
              </p:nvSpPr>
              <p:spPr>
                <a:xfrm>
                  <a:off x="6778440" y="5503320"/>
                  <a:ext cx="14342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Rectangle 203"/>
                <p:cNvSpPr/>
                <p:nvPr/>
              </p:nvSpPr>
              <p:spPr>
                <a:xfrm>
                  <a:off x="6662880" y="5503320"/>
                  <a:ext cx="1667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Group 204"/>
              <p:cNvGrpSpPr/>
              <p:nvPr/>
            </p:nvGrpSpPr>
            <p:grpSpPr>
              <a:xfrm>
                <a:off x="845640" y="5987520"/>
                <a:ext cx="1118520" cy="482040"/>
                <a:chOff x="845640" y="5987520"/>
                <a:chExt cx="1118520" cy="482040"/>
              </a:xfrm>
            </p:grpSpPr>
            <p:sp>
              <p:nvSpPr>
                <p:cNvPr id="409" name="Rectangle 205"/>
                <p:cNvSpPr/>
                <p:nvPr/>
              </p:nvSpPr>
              <p:spPr>
                <a:xfrm>
                  <a:off x="963000" y="5987520"/>
                  <a:ext cx="8834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90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206"/>
                <p:cNvSpPr/>
                <p:nvPr/>
              </p:nvSpPr>
              <p:spPr>
                <a:xfrm>
                  <a:off x="845640" y="5987520"/>
                  <a:ext cx="1118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Group 207"/>
              <p:cNvGrpSpPr/>
              <p:nvPr/>
            </p:nvGrpSpPr>
            <p:grpSpPr>
              <a:xfrm>
                <a:off x="1965960" y="5987520"/>
                <a:ext cx="1438920" cy="482040"/>
                <a:chOff x="1965960" y="5987520"/>
                <a:chExt cx="1438920" cy="482040"/>
              </a:xfrm>
            </p:grpSpPr>
            <p:sp>
              <p:nvSpPr>
                <p:cNvPr id="412" name="Rectangle 208"/>
                <p:cNvSpPr/>
                <p:nvPr/>
              </p:nvSpPr>
              <p:spPr>
                <a:xfrm>
                  <a:off x="2081520" y="5987520"/>
                  <a:ext cx="12056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Rectangle 209"/>
                <p:cNvSpPr/>
                <p:nvPr/>
              </p:nvSpPr>
              <p:spPr>
                <a:xfrm>
                  <a:off x="1965960" y="5987520"/>
                  <a:ext cx="14389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Group 210"/>
              <p:cNvGrpSpPr/>
              <p:nvPr/>
            </p:nvGrpSpPr>
            <p:grpSpPr>
              <a:xfrm>
                <a:off x="3404880" y="5987520"/>
                <a:ext cx="1291680" cy="482040"/>
                <a:chOff x="3404880" y="5987520"/>
                <a:chExt cx="1291680" cy="482040"/>
              </a:xfrm>
            </p:grpSpPr>
            <p:sp>
              <p:nvSpPr>
                <p:cNvPr id="415" name="Rectangle 211"/>
                <p:cNvSpPr/>
                <p:nvPr/>
              </p:nvSpPr>
              <p:spPr>
                <a:xfrm>
                  <a:off x="3522240" y="5987520"/>
                  <a:ext cx="105840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212"/>
                <p:cNvSpPr/>
                <p:nvPr/>
              </p:nvSpPr>
              <p:spPr>
                <a:xfrm>
                  <a:off x="3404880" y="5987520"/>
                  <a:ext cx="1291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Group 213"/>
              <p:cNvGrpSpPr/>
              <p:nvPr/>
            </p:nvGrpSpPr>
            <p:grpSpPr>
              <a:xfrm>
                <a:off x="4700160" y="5987520"/>
                <a:ext cx="639360" cy="482040"/>
                <a:chOff x="4700160" y="5987520"/>
                <a:chExt cx="639360" cy="482040"/>
              </a:xfrm>
            </p:grpSpPr>
            <p:sp>
              <p:nvSpPr>
                <p:cNvPr id="418" name="Rectangle 214"/>
                <p:cNvSpPr/>
                <p:nvPr/>
              </p:nvSpPr>
              <p:spPr>
                <a:xfrm>
                  <a:off x="4700160" y="5987520"/>
                  <a:ext cx="639360" cy="482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9" name="Group 215"/>
                <p:cNvGrpSpPr/>
                <p:nvPr/>
              </p:nvGrpSpPr>
              <p:grpSpPr>
                <a:xfrm>
                  <a:off x="4700160" y="5987520"/>
                  <a:ext cx="637920" cy="480240"/>
                  <a:chOff x="4700160" y="5987520"/>
                  <a:chExt cx="637920" cy="480240"/>
                </a:xfrm>
              </p:grpSpPr>
              <p:sp>
                <p:nvSpPr>
                  <p:cNvPr id="420" name="Rectangle 216"/>
                  <p:cNvSpPr/>
                  <p:nvPr/>
                </p:nvSpPr>
                <p:spPr>
                  <a:xfrm>
                    <a:off x="4816800" y="5987520"/>
                    <a:ext cx="405720" cy="480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Rectangle 217"/>
                  <p:cNvSpPr/>
                  <p:nvPr/>
                </p:nvSpPr>
                <p:spPr>
                  <a:xfrm>
                    <a:off x="4700160" y="5987520"/>
                    <a:ext cx="637920" cy="480240"/>
                  </a:xfrm>
                  <a:prstGeom prst="rect">
                    <a:avLst/>
                  </a:prstGeom>
                  <a:noFill/>
                  <a:ln w="9360">
                    <a:solidFill>
                      <a:srgbClr val="a0a0a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2" name="Group 218"/>
              <p:cNvGrpSpPr/>
              <p:nvPr/>
            </p:nvGrpSpPr>
            <p:grpSpPr>
              <a:xfrm>
                <a:off x="5340960" y="5987520"/>
                <a:ext cx="1318680" cy="482040"/>
                <a:chOff x="5340960" y="5987520"/>
                <a:chExt cx="1318680" cy="482040"/>
              </a:xfrm>
            </p:grpSpPr>
            <p:sp>
              <p:nvSpPr>
                <p:cNvPr id="423" name="Rectangle 219"/>
                <p:cNvSpPr/>
                <p:nvPr/>
              </p:nvSpPr>
              <p:spPr>
                <a:xfrm>
                  <a:off x="5456520" y="5987520"/>
                  <a:ext cx="108576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Rectangle 220"/>
                <p:cNvSpPr/>
                <p:nvPr/>
              </p:nvSpPr>
              <p:spPr>
                <a:xfrm>
                  <a:off x="5340960" y="5987520"/>
                  <a:ext cx="131868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Group 221"/>
              <p:cNvGrpSpPr/>
              <p:nvPr/>
            </p:nvGrpSpPr>
            <p:grpSpPr>
              <a:xfrm>
                <a:off x="6662880" y="5987520"/>
                <a:ext cx="1667520" cy="482040"/>
                <a:chOff x="6662880" y="5987520"/>
                <a:chExt cx="1667520" cy="482040"/>
              </a:xfrm>
            </p:grpSpPr>
            <p:sp>
              <p:nvSpPr>
                <p:cNvPr id="426" name="Rectangle 222"/>
                <p:cNvSpPr/>
                <p:nvPr/>
              </p:nvSpPr>
              <p:spPr>
                <a:xfrm>
                  <a:off x="6778440" y="5987520"/>
                  <a:ext cx="1434240" cy="4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223"/>
                <p:cNvSpPr/>
                <p:nvPr/>
              </p:nvSpPr>
              <p:spPr>
                <a:xfrm>
                  <a:off x="6662880" y="5987520"/>
                  <a:ext cx="1667520" cy="482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8" name="Rectangle 224"/>
            <p:cNvSpPr/>
            <p:nvPr/>
          </p:nvSpPr>
          <p:spPr>
            <a:xfrm>
              <a:off x="838080" y="1143000"/>
              <a:ext cx="7504200" cy="5332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9" name="Rectangle 225"/>
          <p:cNvSpPr/>
          <p:nvPr/>
        </p:nvSpPr>
        <p:spPr>
          <a:xfrm>
            <a:off x="0" y="7184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42560" y="19080"/>
            <a:ext cx="77058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Death rate from infectious diseas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1848-1901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31" name="Group 2"/>
          <p:cNvGrpSpPr/>
          <p:nvPr/>
        </p:nvGrpSpPr>
        <p:grpSpPr>
          <a:xfrm>
            <a:off x="1042920" y="1305000"/>
            <a:ext cx="7704000" cy="4055760"/>
            <a:chOff x="1042920" y="1305000"/>
            <a:chExt cx="7704000" cy="4055760"/>
          </a:xfrm>
        </p:grpSpPr>
        <p:sp>
          <p:nvSpPr>
            <p:cNvPr id="432" name="Rectangle 3"/>
            <p:cNvSpPr/>
            <p:nvPr/>
          </p:nvSpPr>
          <p:spPr>
            <a:xfrm>
              <a:off x="6820920" y="4870800"/>
              <a:ext cx="19249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+139.7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4894560" y="4870800"/>
              <a:ext cx="19260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67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5"/>
            <p:cNvSpPr/>
            <p:nvPr/>
          </p:nvSpPr>
          <p:spPr>
            <a:xfrm>
              <a:off x="2969280" y="4870800"/>
              <a:ext cx="19249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69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6"/>
            <p:cNvSpPr/>
            <p:nvPr/>
          </p:nvSpPr>
          <p:spPr>
            <a:xfrm>
              <a:off x="1042920" y="4870800"/>
              <a:ext cx="192636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Heart dise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7"/>
            <p:cNvSpPr/>
            <p:nvPr/>
          </p:nvSpPr>
          <p:spPr>
            <a:xfrm>
              <a:off x="6820920" y="4382280"/>
              <a:ext cx="19249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-96.2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Rectangle 8"/>
            <p:cNvSpPr/>
            <p:nvPr/>
          </p:nvSpPr>
          <p:spPr>
            <a:xfrm>
              <a:off x="4894560" y="4382280"/>
              <a:ext cx="19260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Rectangle 9"/>
            <p:cNvSpPr/>
            <p:nvPr/>
          </p:nvSpPr>
          <p:spPr>
            <a:xfrm>
              <a:off x="2969280" y="4382280"/>
              <a:ext cx="19249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26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Rectangle 10"/>
            <p:cNvSpPr/>
            <p:nvPr/>
          </p:nvSpPr>
          <p:spPr>
            <a:xfrm>
              <a:off x="1042920" y="4382280"/>
              <a:ext cx="192636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Smallpo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Rectangle 11"/>
            <p:cNvSpPr/>
            <p:nvPr/>
          </p:nvSpPr>
          <p:spPr>
            <a:xfrm>
              <a:off x="6820920" y="3377880"/>
              <a:ext cx="192492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+228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Rectangle 12"/>
            <p:cNvSpPr/>
            <p:nvPr/>
          </p:nvSpPr>
          <p:spPr>
            <a:xfrm>
              <a:off x="4894560" y="3377880"/>
              <a:ext cx="192600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6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Rectangle 13"/>
            <p:cNvSpPr/>
            <p:nvPr/>
          </p:nvSpPr>
          <p:spPr>
            <a:xfrm>
              <a:off x="2969280" y="3377880"/>
              <a:ext cx="192492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Rectangle 14"/>
            <p:cNvSpPr/>
            <p:nvPr/>
          </p:nvSpPr>
          <p:spPr>
            <a:xfrm>
              <a:off x="1042920" y="3377880"/>
              <a:ext cx="192636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Sexually-transmitted diseas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Rectangle 15"/>
            <p:cNvSpPr/>
            <p:nvPr/>
          </p:nvSpPr>
          <p:spPr>
            <a:xfrm>
              <a:off x="6820920" y="2373840"/>
              <a:ext cx="19249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-45.8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Rectangle 16"/>
            <p:cNvSpPr/>
            <p:nvPr/>
          </p:nvSpPr>
          <p:spPr>
            <a:xfrm>
              <a:off x="4894560" y="2373840"/>
              <a:ext cx="192600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93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Rectangle 17"/>
            <p:cNvSpPr/>
            <p:nvPr/>
          </p:nvSpPr>
          <p:spPr>
            <a:xfrm>
              <a:off x="2969280" y="2373840"/>
              <a:ext cx="19249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356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18"/>
            <p:cNvSpPr/>
            <p:nvPr/>
          </p:nvSpPr>
          <p:spPr>
            <a:xfrm>
              <a:off x="1042920" y="2373840"/>
              <a:ext cx="192636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Water and food borne dise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Rectangle 19"/>
            <p:cNvSpPr/>
            <p:nvPr/>
          </p:nvSpPr>
          <p:spPr>
            <a:xfrm>
              <a:off x="6820920" y="1883520"/>
              <a:ext cx="19249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-55.3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Rectangle 20"/>
            <p:cNvSpPr/>
            <p:nvPr/>
          </p:nvSpPr>
          <p:spPr>
            <a:xfrm>
              <a:off x="4894560" y="1883520"/>
              <a:ext cx="19260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26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21"/>
            <p:cNvSpPr/>
            <p:nvPr/>
          </p:nvSpPr>
          <p:spPr>
            <a:xfrm>
              <a:off x="2969280" y="1883520"/>
              <a:ext cx="19249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290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22"/>
            <p:cNvSpPr/>
            <p:nvPr/>
          </p:nvSpPr>
          <p:spPr>
            <a:xfrm>
              <a:off x="1042920" y="1883520"/>
              <a:ext cx="19263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Tuberculosi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23"/>
            <p:cNvSpPr/>
            <p:nvPr/>
          </p:nvSpPr>
          <p:spPr>
            <a:xfrm>
              <a:off x="6820920" y="1305000"/>
              <a:ext cx="192492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Percentage chang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Rectangle 24"/>
            <p:cNvSpPr/>
            <p:nvPr/>
          </p:nvSpPr>
          <p:spPr>
            <a:xfrm>
              <a:off x="4894560" y="1305000"/>
              <a:ext cx="19260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901 deaths per mill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25"/>
            <p:cNvSpPr/>
            <p:nvPr/>
          </p:nvSpPr>
          <p:spPr>
            <a:xfrm>
              <a:off x="2969280" y="1305000"/>
              <a:ext cx="192492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848 deaths per mill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Rectangle 26"/>
            <p:cNvSpPr/>
            <p:nvPr/>
          </p:nvSpPr>
          <p:spPr>
            <a:xfrm>
              <a:off x="1042920" y="1305000"/>
              <a:ext cx="192636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Dise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>
              <a:off x="1042920" y="1305000"/>
              <a:ext cx="77029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28"/>
            <p:cNvSpPr/>
            <p:nvPr/>
          </p:nvSpPr>
          <p:spPr>
            <a:xfrm>
              <a:off x="1042920" y="1883520"/>
              <a:ext cx="770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29"/>
            <p:cNvSpPr/>
            <p:nvPr/>
          </p:nvSpPr>
          <p:spPr>
            <a:xfrm>
              <a:off x="1042920" y="2373840"/>
              <a:ext cx="7702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30"/>
            <p:cNvSpPr/>
            <p:nvPr/>
          </p:nvSpPr>
          <p:spPr>
            <a:xfrm>
              <a:off x="1042920" y="3377880"/>
              <a:ext cx="770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1"/>
            <p:cNvSpPr/>
            <p:nvPr/>
          </p:nvSpPr>
          <p:spPr>
            <a:xfrm>
              <a:off x="1042920" y="4382280"/>
              <a:ext cx="7702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32"/>
            <p:cNvSpPr/>
            <p:nvPr/>
          </p:nvSpPr>
          <p:spPr>
            <a:xfrm>
              <a:off x="1042920" y="4870800"/>
              <a:ext cx="7702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33"/>
            <p:cNvSpPr/>
            <p:nvPr/>
          </p:nvSpPr>
          <p:spPr>
            <a:xfrm>
              <a:off x="1042920" y="5359680"/>
              <a:ext cx="77029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4"/>
            <p:cNvSpPr/>
            <p:nvPr/>
          </p:nvSpPr>
          <p:spPr>
            <a:xfrm>
              <a:off x="1042920" y="1305000"/>
              <a:ext cx="1440" cy="405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35"/>
            <p:cNvSpPr/>
            <p:nvPr/>
          </p:nvSpPr>
          <p:spPr>
            <a:xfrm>
              <a:off x="2969280" y="1305000"/>
              <a:ext cx="1080" cy="405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6"/>
            <p:cNvSpPr/>
            <p:nvPr/>
          </p:nvSpPr>
          <p:spPr>
            <a:xfrm>
              <a:off x="4894560" y="1305000"/>
              <a:ext cx="1080" cy="405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37"/>
            <p:cNvSpPr/>
            <p:nvPr/>
          </p:nvSpPr>
          <p:spPr>
            <a:xfrm>
              <a:off x="6820920" y="1305000"/>
              <a:ext cx="1080" cy="405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8"/>
            <p:cNvSpPr/>
            <p:nvPr/>
          </p:nvSpPr>
          <p:spPr>
            <a:xfrm>
              <a:off x="8745840" y="1305000"/>
              <a:ext cx="1080" cy="405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Cholera Epidemic in Hamburg, 1892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69" name="Group 2"/>
          <p:cNvGrpSpPr/>
          <p:nvPr/>
        </p:nvGrpSpPr>
        <p:grpSpPr>
          <a:xfrm>
            <a:off x="1042920" y="1305000"/>
            <a:ext cx="7704000" cy="4484160"/>
            <a:chOff x="1042920" y="1305000"/>
            <a:chExt cx="7704000" cy="4484160"/>
          </a:xfrm>
        </p:grpSpPr>
        <p:sp>
          <p:nvSpPr>
            <p:cNvPr id="470" name="Rectangle 3"/>
            <p:cNvSpPr/>
            <p:nvPr/>
          </p:nvSpPr>
          <p:spPr>
            <a:xfrm>
              <a:off x="6820920" y="5330880"/>
              <a:ext cx="1924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.0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4"/>
            <p:cNvSpPr/>
            <p:nvPr/>
          </p:nvSpPr>
          <p:spPr>
            <a:xfrm>
              <a:off x="4894560" y="5330880"/>
              <a:ext cx="1926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.0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5"/>
            <p:cNvSpPr/>
            <p:nvPr/>
          </p:nvSpPr>
          <p:spPr>
            <a:xfrm>
              <a:off x="2969280" y="5330880"/>
              <a:ext cx="1924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83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1042920" y="5330880"/>
              <a:ext cx="1926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Over 5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>
              <a:off x="6820920" y="4874040"/>
              <a:ext cx="1924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.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>
              <a:off x="4894560" y="4874040"/>
              <a:ext cx="1926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.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2969280" y="4874040"/>
              <a:ext cx="1924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,18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1042920" y="4874040"/>
              <a:ext cx="1926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25,000-5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>
              <a:off x="6820920" y="4417200"/>
              <a:ext cx="1924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>
              <a:off x="4894560" y="4417200"/>
              <a:ext cx="1926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.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>
              <a:off x="2969280" y="4417200"/>
              <a:ext cx="1924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3,32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Rectangle 14"/>
            <p:cNvSpPr/>
            <p:nvPr/>
          </p:nvSpPr>
          <p:spPr>
            <a:xfrm>
              <a:off x="1042920" y="4417200"/>
              <a:ext cx="1926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0,000-25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Rectangle 15"/>
            <p:cNvSpPr/>
            <p:nvPr/>
          </p:nvSpPr>
          <p:spPr>
            <a:xfrm>
              <a:off x="6820920" y="3960360"/>
              <a:ext cx="1924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.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Rectangle 16"/>
            <p:cNvSpPr/>
            <p:nvPr/>
          </p:nvSpPr>
          <p:spPr>
            <a:xfrm>
              <a:off x="4894560" y="3960360"/>
              <a:ext cx="1926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3.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Rectangle 17"/>
            <p:cNvSpPr/>
            <p:nvPr/>
          </p:nvSpPr>
          <p:spPr>
            <a:xfrm>
              <a:off x="2969280" y="3960360"/>
              <a:ext cx="1924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5,64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Rectangle 18"/>
            <p:cNvSpPr/>
            <p:nvPr/>
          </p:nvSpPr>
          <p:spPr>
            <a:xfrm>
              <a:off x="1042920" y="3960360"/>
              <a:ext cx="1926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5,000-1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Rectangle 19"/>
            <p:cNvSpPr/>
            <p:nvPr/>
          </p:nvSpPr>
          <p:spPr>
            <a:xfrm>
              <a:off x="6820920" y="3531960"/>
              <a:ext cx="1924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2.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Rectangle 20"/>
            <p:cNvSpPr/>
            <p:nvPr/>
          </p:nvSpPr>
          <p:spPr>
            <a:xfrm>
              <a:off x="4894560" y="3531960"/>
              <a:ext cx="19260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4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Rectangle 21"/>
            <p:cNvSpPr/>
            <p:nvPr/>
          </p:nvSpPr>
          <p:spPr>
            <a:xfrm>
              <a:off x="2969280" y="3531960"/>
              <a:ext cx="19249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6,125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Rectangle 22"/>
            <p:cNvSpPr/>
            <p:nvPr/>
          </p:nvSpPr>
          <p:spPr>
            <a:xfrm>
              <a:off x="1042920" y="3531960"/>
              <a:ext cx="19263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3,500-5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Rectangle 23"/>
            <p:cNvSpPr/>
            <p:nvPr/>
          </p:nvSpPr>
          <p:spPr>
            <a:xfrm>
              <a:off x="6820920" y="3137040"/>
              <a:ext cx="1924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2.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Rectangle 24"/>
            <p:cNvSpPr/>
            <p:nvPr/>
          </p:nvSpPr>
          <p:spPr>
            <a:xfrm>
              <a:off x="4894560" y="3137040"/>
              <a:ext cx="192600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4.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Rectangle 25"/>
            <p:cNvSpPr/>
            <p:nvPr/>
          </p:nvSpPr>
          <p:spPr>
            <a:xfrm>
              <a:off x="2969280" y="3137040"/>
              <a:ext cx="1924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4,54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Rectangle 26"/>
            <p:cNvSpPr/>
            <p:nvPr/>
          </p:nvSpPr>
          <p:spPr>
            <a:xfrm>
              <a:off x="1042920" y="3137040"/>
              <a:ext cx="19263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2,000-3,5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27"/>
            <p:cNvSpPr/>
            <p:nvPr/>
          </p:nvSpPr>
          <p:spPr>
            <a:xfrm>
              <a:off x="6820920" y="2742120"/>
              <a:ext cx="1924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5.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28"/>
            <p:cNvSpPr/>
            <p:nvPr/>
          </p:nvSpPr>
          <p:spPr>
            <a:xfrm>
              <a:off x="4894560" y="2742120"/>
              <a:ext cx="192600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0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Rectangle 29"/>
            <p:cNvSpPr/>
            <p:nvPr/>
          </p:nvSpPr>
          <p:spPr>
            <a:xfrm>
              <a:off x="2969280" y="2742120"/>
              <a:ext cx="1924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32,84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30"/>
            <p:cNvSpPr/>
            <p:nvPr/>
          </p:nvSpPr>
          <p:spPr>
            <a:xfrm>
              <a:off x="1042920" y="2742120"/>
              <a:ext cx="19263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,000-2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Rectangle 31"/>
            <p:cNvSpPr/>
            <p:nvPr/>
          </p:nvSpPr>
          <p:spPr>
            <a:xfrm>
              <a:off x="6820920" y="2308680"/>
              <a:ext cx="192492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6.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Rectangle 32"/>
            <p:cNvSpPr/>
            <p:nvPr/>
          </p:nvSpPr>
          <p:spPr>
            <a:xfrm>
              <a:off x="4894560" y="2308680"/>
              <a:ext cx="192600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11.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Rectangle 33"/>
            <p:cNvSpPr/>
            <p:nvPr/>
          </p:nvSpPr>
          <p:spPr>
            <a:xfrm>
              <a:off x="2969280" y="2308680"/>
              <a:ext cx="192492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28,64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34"/>
            <p:cNvSpPr/>
            <p:nvPr/>
          </p:nvSpPr>
          <p:spPr>
            <a:xfrm>
              <a:off x="1042920" y="2308680"/>
              <a:ext cx="192636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800-1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Rectangle 35"/>
            <p:cNvSpPr/>
            <p:nvPr/>
          </p:nvSpPr>
          <p:spPr>
            <a:xfrm>
              <a:off x="6820920" y="1305000"/>
              <a:ext cx="19249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% who di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Rectangle 36"/>
            <p:cNvSpPr/>
            <p:nvPr/>
          </p:nvSpPr>
          <p:spPr>
            <a:xfrm>
              <a:off x="4894560" y="1305000"/>
              <a:ext cx="19260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% who caught Choler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37"/>
            <p:cNvSpPr/>
            <p:nvPr/>
          </p:nvSpPr>
          <p:spPr>
            <a:xfrm>
              <a:off x="2969280" y="1305000"/>
              <a:ext cx="19249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Number of peop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38"/>
            <p:cNvSpPr/>
            <p:nvPr/>
          </p:nvSpPr>
          <p:spPr>
            <a:xfrm>
              <a:off x="1042920" y="1305000"/>
              <a:ext cx="19263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entury Schoolbook"/>
                  <a:ea typeface="Times New Roman"/>
                </a:rPr>
                <a:t>Annual income in marks(1=25c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1042920" y="1305000"/>
              <a:ext cx="77029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>
              <a:off x="1042920" y="2308680"/>
              <a:ext cx="770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41"/>
            <p:cNvSpPr/>
            <p:nvPr/>
          </p:nvSpPr>
          <p:spPr>
            <a:xfrm>
              <a:off x="1042920" y="2742120"/>
              <a:ext cx="7702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42"/>
            <p:cNvSpPr/>
            <p:nvPr/>
          </p:nvSpPr>
          <p:spPr>
            <a:xfrm>
              <a:off x="1042920" y="3137040"/>
              <a:ext cx="7702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43"/>
            <p:cNvSpPr/>
            <p:nvPr/>
          </p:nvSpPr>
          <p:spPr>
            <a:xfrm>
              <a:off x="1042920" y="3531960"/>
              <a:ext cx="7702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44"/>
            <p:cNvSpPr/>
            <p:nvPr/>
          </p:nvSpPr>
          <p:spPr>
            <a:xfrm>
              <a:off x="1042920" y="3960360"/>
              <a:ext cx="7702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45"/>
            <p:cNvSpPr/>
            <p:nvPr/>
          </p:nvSpPr>
          <p:spPr>
            <a:xfrm>
              <a:off x="1042920" y="5788080"/>
              <a:ext cx="77029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46"/>
            <p:cNvSpPr/>
            <p:nvPr/>
          </p:nvSpPr>
          <p:spPr>
            <a:xfrm>
              <a:off x="1042920" y="1305000"/>
              <a:ext cx="1440" cy="448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47"/>
            <p:cNvSpPr/>
            <p:nvPr/>
          </p:nvSpPr>
          <p:spPr>
            <a:xfrm>
              <a:off x="2969280" y="1305000"/>
              <a:ext cx="1080" cy="448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48"/>
            <p:cNvSpPr/>
            <p:nvPr/>
          </p:nvSpPr>
          <p:spPr>
            <a:xfrm>
              <a:off x="4894560" y="1305000"/>
              <a:ext cx="1080" cy="448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49"/>
            <p:cNvSpPr/>
            <p:nvPr/>
          </p:nvSpPr>
          <p:spPr>
            <a:xfrm>
              <a:off x="6820920" y="1305000"/>
              <a:ext cx="1080" cy="448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50"/>
            <p:cNvSpPr/>
            <p:nvPr/>
          </p:nvSpPr>
          <p:spPr>
            <a:xfrm>
              <a:off x="8745840" y="1305000"/>
              <a:ext cx="1080" cy="448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51"/>
            <p:cNvSpPr/>
            <p:nvPr/>
          </p:nvSpPr>
          <p:spPr>
            <a:xfrm>
              <a:off x="1042920" y="4417200"/>
              <a:ext cx="7702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52"/>
            <p:cNvSpPr/>
            <p:nvPr/>
          </p:nvSpPr>
          <p:spPr>
            <a:xfrm>
              <a:off x="1042920" y="4874040"/>
              <a:ext cx="7702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53"/>
            <p:cNvSpPr/>
            <p:nvPr/>
          </p:nvSpPr>
          <p:spPr>
            <a:xfrm>
              <a:off x="1042920" y="5330880"/>
              <a:ext cx="7702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95480" y="1828800"/>
            <a:ext cx="5865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1. What were the major problems facing 1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century European cities and with what degree of success were these problems address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2. Explain the role of European governments in improving the urban environment. What were the most important aspects of their involvement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3. Marx predicted in 1848 that European society would be increasingly polarized into two classes – proletariat and bourgeoisie. What was the reality of the European social structure in the second half of the 1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century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4. European attitudes toward children seemed to change from the 1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to the 1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century. Why did attitudes and practices change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5. The second half of the 1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century has been called the Golden Age of Science. How was this reflected in the literature and philosophy of the time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19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 century urban life: Taming the cit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19th century urban life: Taming the c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9532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901800" y="1371600"/>
            <a:ext cx="7238880" cy="5087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19th century urban life: Taming the c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Advances in public health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7160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entury Schoolbook"/>
              </a:rPr>
              <a:t>The Sanitary Conditions of the Labouring Population (1842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Chadwick argued that disease was directly related to living conditions and that there was a desperate need for public health reform.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2725920" cy="43434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143000" y="5867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win Chadw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Advances in public health: germ theor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3733920" y="5334120"/>
            <a:ext cx="1828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bies vaccine, pasteur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3809880" y="2666880"/>
            <a:ext cx="1951200" cy="2362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1765080" cy="24955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15840" y="4038480"/>
            <a:ext cx="154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bert Ko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hrax &amp; T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934320" y="3733920"/>
            <a:ext cx="1676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seph Li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iseptic princi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3"/>
          <a:stretch/>
        </p:blipFill>
        <p:spPr>
          <a:xfrm>
            <a:off x="6781680" y="1219320"/>
            <a:ext cx="1938600" cy="23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Urban planning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5924520" cy="3927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6934320" y="1752480"/>
            <a:ext cx="1904760" cy="22194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6781680" y="4724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on Hauss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" descr=""/>
          <p:cNvPicPr/>
          <p:nvPr/>
        </p:nvPicPr>
        <p:blipFill>
          <a:blip r:embed="rId1"/>
          <a:srcRect l="7073" t="0" r="0" b="55521"/>
          <a:stretch/>
        </p:blipFill>
        <p:spPr>
          <a:xfrm>
            <a:off x="0" y="-174600"/>
            <a:ext cx="9144000" cy="7032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san Vanderpool</dc:creator>
  <dc:description/>
  <dc:language>en-US</dc:language>
  <cp:lastModifiedBy>Info Tech</cp:lastModifiedBy>
  <dcterms:modified xsi:type="dcterms:W3CDTF">2009-02-05T13:28:16Z</dcterms:modified>
  <cp:revision>2</cp:revision>
  <dc:subject/>
  <dc:title>Tuesday Topics</dc:title>
</cp:coreProperties>
</file>